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E4D-20B7-43F4-A29E-7483D0A0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1B16-DBF6-4863-B974-CE1C5A37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94B-4955-45C6-9B0E-DE850247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12B7-EAB3-436D-BC31-17CD56B6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8FF9-11F0-4158-B173-A08A613F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B9E3-73DD-4F71-A06D-8A3D6FB2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20D9-4065-4617-A82C-EB2AE8AC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63FE-06F8-4DD9-A9EB-6BF0C156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BE0C-C30E-4EDF-8463-FB88507B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8308-CB73-454D-B08C-6CA8436C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92C7-8C22-4820-85B7-04160928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3C1-806D-430D-A365-BEC1F0C6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F210-9A71-43B1-AC7F-1154EB1C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1C6B-AA61-4F26-9859-33A8117E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8D3A-8D1C-4928-A2A2-F764AA46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AD31-F4B2-4C2F-BCB2-D60883C5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1905-8E22-4B7B-BA25-E611CB3D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A845-5AE6-4D22-BBAE-A025F94D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296-6E67-422F-822D-0FDADD2B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DB40-8D3E-463E-B547-6B5E44B2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17B5-5103-4A74-B120-FE9FA20D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964-8518-40E9-9494-36BE67AE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C31-F449-4AB3-95F2-8436E638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B126-A270-4A09-96B1-563F52A4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208D-63C5-43B2-A567-186D4E266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99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7719-A3D0-41D5-AA03-58B14C3D6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sinet.com/forms/whitepapers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ature.com/nature/author/embargo.htm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epositories.cdlib.org/escholarship/" TargetMode="External"/><Relationship Id="rId2" Type="http://schemas.openxmlformats.org/officeDocument/2006/relationships/hyperlink" Target="http://escholarship.bc.edu/" TargetMode="External"/><Relationship Id="rId3" Type="http://schemas.openxmlformats.org/officeDocument/2006/relationships/hyperlink" Target="http://repository.upenn.edu/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17144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Jefferson Digital Commons: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n Institutional Repository for TJU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400" y="3886200"/>
            <a:ext cx="759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-journal interfaces are flexi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7" name="opolis" descr=""/>
          <p:cNvPicPr/>
          <p:nvPr/>
        </p:nvPicPr>
        <p:blipFill>
          <a:blip r:embed="rId1"/>
          <a:stretch/>
        </p:blipFill>
        <p:spPr>
          <a:xfrm>
            <a:off x="690480" y="990720"/>
            <a:ext cx="7761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Why now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 confluence of many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capability of auth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uration of search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ccess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ordability of storage &amp;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 about pre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nabling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document scholarly output activities of our facu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Why should faculty be interested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professional vi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of preprints and postprints increases citation rate and rate of disse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ing tools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peer-reviewed publishing of journals, proceedings &amp; other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dites dissertation review and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non-public storage space for departmental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-text searchability, multiple formats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does the Commons maximize faculty exposur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7,000 documents in the California Digital Library produce over 29,000 downloads per wee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of their use comes from outside the UC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data used to describe contents enhances their position in Goo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our research appears in Goo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googlescreen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f my paper is already on my websit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pages are notorious for moving; conference websites often disappear after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 Digital Commons creates an additional access point with a permanent U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link to or from individual papers in the Com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mmons supports a community of faculty actively engaged with a worldwide audience of fellow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bout the new NIH policy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H deposit is only voluntary and can be long de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only to NIH-funde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s demonstrate that opening access to articles results in wider dissemination and earlier citation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ISI Whitepaper:  Open Access Journals in the ISI Databases:  Analysis of Impact Factors and Citation Patterns,  October 2004 (</a:t>
            </a:r>
            <a:r>
              <a:rPr b="0" lang="en-US" sz="1400" spc="-1" strike="noStrike" u="sng">
                <a:solidFill>
                  <a:srgbClr val="006699"/>
                </a:solidFill>
                <a:uFillTx/>
                <a:latin typeface="Arial"/>
                <a:hlinkClick r:id="rId1"/>
              </a:rPr>
              <a:t>http://www.isinet.com/forms/whitepapers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Antelman, Kristen. Do Open-Access Articles Have a Greater Researc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? College and Research Libraries, 65(5), 372-382. September 2004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re articles </a:t>
            </a:r>
            <a:r>
              <a:rPr b="0" i="1" lang="en-US" sz="4400" spc="-1" strike="noStrike">
                <a:solidFill>
                  <a:srgbClr val="003366"/>
                </a:solidFill>
                <a:latin typeface="Times New Roman"/>
              </a:rPr>
              <a:t>really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cited more?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increase of citation rate for open access vs. toll articles in four fields: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osophy 4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science 8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&amp; electronic engineering 5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 9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Data from: Antelman, Kristen. Do Open-Access Articles Have a Greater Researc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? College and Research Libraries, 65(5), 372-382. September 2004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bout the publisher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ublishers do not consider repository release to be “prior submiss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“Nat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wish to hinder communication between scientists. For that reason, different embargo guidelines apply to work that has been discussed at a conference or displayed on a preprint server and picked up by the media as a result. (Neither conferences nor preprint servers constitute prior publication.)“ 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1"/>
              </a:rPr>
              <a:t>http://www.nature.com/nature/author/embargo.ht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journals (84%+) will allow preprints to stay up after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gital Commons timestamps deposits for proof of precedence (for copyright or patent purpo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ost journals already allow preprint and/or postprint publish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5" name="romeo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New language, new technology,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ld concept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2430360"/>
            <a:ext cx="777240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institutional reposi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rganized library of YOU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services that a university offers to the members of its community for the management and dissemination of digital materials created by the institution and its community members.”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fford Lynch “Institutional Repositories: Essential Infrastructure for Scholarship in the Digital Age”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L Bimonthly Re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2003. (http://www.arl.org/newsltr/226/ir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dvantages of ProQuest’s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Digital Commons softwar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peer-review management for journals and procee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able screen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unique appearance of jour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tatistics reported monthly to auth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notification of new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able full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text indexed in Google &amp; other major 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ed access for private departmental col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disser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-campus hosting and backup for pre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4840" y="1299240"/>
            <a:ext cx="132840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rch Eng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ho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3110040"/>
            <a:ext cx="2228760" cy="9064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duate Stu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ser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3124080"/>
            <a:ext cx="1307880" cy="8384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ul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533520"/>
            <a:ext cx="1523880" cy="1066680"/>
          </a:xfrm>
          <a:prstGeom prst="cloudCallout">
            <a:avLst>
              <a:gd name="adj1" fmla="val 12500"/>
              <a:gd name="adj2" fmla="val 14717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8760" y="521280"/>
            <a:ext cx="165312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itutional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ual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nt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7320" y="4938480"/>
            <a:ext cx="3393360" cy="1680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al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erenc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Journals &amp; News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onsored by Jefferson Dep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onsored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1828800"/>
            <a:ext cx="3810240" cy="9144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ffers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000" y="785880"/>
            <a:ext cx="107100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u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32640" y="2827800"/>
            <a:ext cx="2206440" cy="1938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que Librar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versity Arch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age Col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que Hist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29718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19680" y="4100040"/>
            <a:ext cx="1453680" cy="649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tekee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48840" y="4100040"/>
            <a:ext cx="1759320" cy="649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SR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y meta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5091840"/>
            <a:ext cx="4419720" cy="1422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l Faculty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urnal Article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roduced at Jeffer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ical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/>
          <p:nvPr/>
        </p:nvCxnSpPr>
        <p:spPr>
          <a:xfrm>
            <a:off x="3352320" y="1218960"/>
            <a:ext cx="383400" cy="610200"/>
          </a:xfrm>
          <a:prstGeom prst="curvedConnector2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2514600" y="1752480"/>
            <a:ext cx="533520" cy="990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/>
          <p:nvPr/>
        </p:nvCxnSpPr>
        <p:spPr>
          <a:xfrm flipV="1" rot="10800000">
            <a:off x="1142280" y="608040"/>
            <a:ext cx="938880" cy="591120"/>
          </a:xfrm>
          <a:prstGeom prst="curvedConnector2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"/>
          <p:cNvCxnSpPr/>
          <p:nvPr/>
        </p:nvCxnSpPr>
        <p:spPr>
          <a:xfrm flipH="1" rot="16200000">
            <a:off x="2184840" y="1471320"/>
            <a:ext cx="438840" cy="1762920"/>
          </a:xfrm>
          <a:prstGeom prst="curvedConnector5">
            <a:avLst>
              <a:gd name="adj1" fmla="val 152134"/>
              <a:gd name="adj2" fmla="val 50000"/>
              <a:gd name="adj3" fmla="val 152134"/>
            </a:avLst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"/>
          <p:cNvCxnSpPr>
            <a:endCxn id="174" idx="0"/>
          </p:cNvCxnSpPr>
          <p:nvPr/>
        </p:nvCxnSpPr>
        <p:spPr>
          <a:xfrm>
            <a:off x="3467160" y="1066320"/>
            <a:ext cx="179136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"/>
          <p:cNvCxnSpPr>
            <a:stCxn id="172" idx="1"/>
            <a:endCxn id="174" idx="1"/>
          </p:cNvCxnSpPr>
          <p:nvPr/>
        </p:nvCxnSpPr>
        <p:spPr>
          <a:xfrm flipH="1">
            <a:off x="5257440" y="933120"/>
            <a:ext cx="838800" cy="896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78" idx="6"/>
            <a:endCxn id="179" idx="2"/>
          </p:cNvCxnSpPr>
          <p:nvPr/>
        </p:nvCxnSpPr>
        <p:spPr>
          <a:xfrm>
            <a:off x="4441320" y="4424040"/>
            <a:ext cx="443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69" idx="6"/>
            <a:endCxn id="170" idx="2"/>
          </p:cNvCxnSpPr>
          <p:nvPr/>
        </p:nvCxnSpPr>
        <p:spPr>
          <a:xfrm flipV="1">
            <a:off x="2457360" y="3543120"/>
            <a:ext cx="362520" cy="20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3" idx="7"/>
            <a:endCxn id="178" idx="4"/>
          </p:cNvCxnSpPr>
          <p:nvPr/>
        </p:nvCxnSpPr>
        <p:spPr>
          <a:xfrm flipV="1">
            <a:off x="3295800" y="4733280"/>
            <a:ext cx="45144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78" idx="7"/>
            <a:endCxn id="174" idx="2"/>
          </p:cNvCxnSpPr>
          <p:nvPr/>
        </p:nvCxnSpPr>
        <p:spPr>
          <a:xfrm flipV="1">
            <a:off x="4238280" y="2742480"/>
            <a:ext cx="1019880" cy="14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9" idx="0"/>
            <a:endCxn id="174" idx="3"/>
          </p:cNvCxnSpPr>
          <p:nvPr/>
        </p:nvCxnSpPr>
        <p:spPr>
          <a:xfrm flipH="1" flipV="1">
            <a:off x="5257440" y="2742840"/>
            <a:ext cx="47232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0" idx="7"/>
            <a:endCxn id="174" idx="4"/>
          </p:cNvCxnSpPr>
          <p:nvPr/>
        </p:nvCxnSpPr>
        <p:spPr>
          <a:xfrm flipV="1">
            <a:off x="3935160" y="2742840"/>
            <a:ext cx="132300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76" idx="1"/>
            <a:endCxn id="174" idx="5"/>
          </p:cNvCxnSpPr>
          <p:nvPr/>
        </p:nvCxnSpPr>
        <p:spPr>
          <a:xfrm flipH="1" flipV="1">
            <a:off x="5257440" y="2742480"/>
            <a:ext cx="1699200" cy="47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0" idx="0"/>
            <a:endCxn id="179" idx="5"/>
          </p:cNvCxnSpPr>
          <p:nvPr/>
        </p:nvCxnSpPr>
        <p:spPr>
          <a:xfrm flipH="1" flipV="1">
            <a:off x="6324120" y="4642920"/>
            <a:ext cx="153360" cy="46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ow does it work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RLs of exampl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ifornia Digital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"/>
                <a:hlinkClick r:id="rId1"/>
              </a:rPr>
              <a:t>http://repositories.cdlib.org/escholarship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e-journals and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1,000,000 downloads to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ston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"/>
                <a:hlinkClick r:id="rId2"/>
              </a:rPr>
              <a:t>http://escholarship.bc.edu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- view e-journal submission process (JT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Pe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"/>
                <a:hlinkClick r:id="rId3"/>
              </a:rPr>
              <a:t>http://repository.upenn.edu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- dissertations &amp; faculty 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Why is AISR involved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SR provides leadership on topics of scholarly communication &amp; publishing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n extension of our current mission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digital text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independent digital image collections (JMD, PHD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ccess to print disser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University output (Jeff authors, official record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og, classify &amp; preserv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Departments can develop publications independently of AIS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conduct peer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and/or staff upload material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SR sets up the submission and review processes for departmental faculty or staff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SR provides training &amp;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pportunities for departmen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 conference proceedings, journals, or departmental newslett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t faculty public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a professional repository or  clearingho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departmental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sts for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h outla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ff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for peer review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&amp; submission of faculty/departmental public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going partnership with AI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87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oin us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7" name="jdc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tact for further inform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 Koopm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FFLINE Edi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Memorial Library, M1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20 Walnut 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adelphia, PA  19107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.Koopman@jefferson.ed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5-503-04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tential for many types of u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inghouse for literature of a prof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ation / storage for faculty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onal tool for vi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 is joining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munity at the forefront of scholarly communications – over 400 now established, and growing worldw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:  eScholarship at U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ucdiglib" descr=""/>
          <p:cNvPicPr/>
          <p:nvPr/>
        </p:nvPicPr>
        <p:blipFill>
          <a:blip r:embed="rId1"/>
          <a:stretch/>
        </p:blipFill>
        <p:spPr>
          <a:xfrm>
            <a:off x="576360" y="1066680"/>
            <a:ext cx="79898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:  TSpace at U Toro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tspace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153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: U of Queensla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qut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:  DSpace at MI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1" name="dspace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What can be stored in the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Jefferson Digital Commons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e papers, posters &amp;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s and disser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 journals &amp; newsletters, with supplemental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l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or clinical documents, data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, sound files,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rints/postprints, books and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arch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al “grey literat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40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Commons can function as a University Pr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jtla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1:16:18Z</dcterms:created>
  <dc:creator>ann koopman</dc:creator>
  <dc:description/>
  <dc:language>en-US</dc:language>
  <cp:lastModifiedBy>ann koopman</cp:lastModifiedBy>
  <dcterms:modified xsi:type="dcterms:W3CDTF">2005-04-28T14:05:40Z</dcterms:modified>
  <cp:revision>31</cp:revision>
  <dc:subject/>
  <dc:title>Institutional Repositories:  Starting the Evaluation Process</dc:title>
</cp:coreProperties>
</file>