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187-4189-40A2-9CF0-6D161C03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367-880A-45AD-BD22-78558207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41A-6F91-455B-B2C0-5B17F03F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83F-7677-4502-9ED5-113E0833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9E29-3B67-4E12-A386-AC06FF1B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5FBA-2F8A-4813-9394-4D8089FB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CD1B-A05B-4D7E-A2DE-8A8F7050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524E-1FD8-46F9-85CA-21912ABC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21E3-6806-4261-BA5F-E58E4A0D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6393-0EF7-4F3F-A33B-F2647521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746D-9781-44EF-8847-7D3829C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1BE-71B4-408C-9B35-7B413B1B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27A6-6235-40FE-B3D1-E8FC6DB0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87FC-AF60-460A-8F02-5BF218E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0C89-E49D-49B1-A170-67E4061E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F50C-7601-4024-BFD1-5187CBA4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2295-8947-4830-98BD-6E9F2655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4EA-7254-4E5B-BBAF-F302DDE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CE5-08E2-4F19-94A1-51B23A8F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742-35E5-4041-AEE6-6DC2AB70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10E-2CB4-469C-892D-55E50031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1FB-C97B-4865-A735-0985AC8E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BF5-A182-4C71-BBA3-6A2C1121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3EE-777F-4F2A-A691-5A2A7BDE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99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48E2-F6BD-434C-920D-44EC04316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99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9646-9E1E-48F6-8779-F39CDF69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sinet.com/forms/whitepaper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ature.com/nature/author/embargo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epositories.cdlib.org/escholarship/" TargetMode="External"/><Relationship Id="rId2" Type="http://schemas.openxmlformats.org/officeDocument/2006/relationships/hyperlink" Target="http://escholarship.bc.edu/" TargetMode="External"/><Relationship Id="rId3" Type="http://schemas.openxmlformats.org/officeDocument/2006/relationships/hyperlink" Target="http://repository.upenn.edu/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1714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Jefferson Digital Commons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n Institutional Repository for TJU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400" y="3886200"/>
            <a:ext cx="759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-journal interfaces are flexi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opolis" descr=""/>
          <p:cNvPicPr/>
          <p:nvPr/>
        </p:nvPicPr>
        <p:blipFill>
          <a:blip r:embed="rId1"/>
          <a:stretch/>
        </p:blipFill>
        <p:spPr>
          <a:xfrm>
            <a:off x="690480" y="990720"/>
            <a:ext cx="7761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y now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confluence of many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apability of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ation of search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ordability of storage &amp;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about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nabl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document scholarly output activities of our fa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y should faculty be interested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professional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of preprints and postprints increases citation rate and rate of disse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ing tools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peer-reviewed publishing of journals, proceedings &amp; other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dites dissertation review and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non-public storage space for departmental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-text searchability, multiple format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oes the Commons maximize faculty exposur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7,000 documents in the California Digital Library produce over 29,000 downloads per wee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of their use comes from outside the UC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used to describe contents enhances their position in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research appears in Goo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googlescreen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f my paper is already on my websit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s are notorious for moving; conference websites often disappear after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erson Digital Commons creates an additional access point with a permanent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link to or from individual papers in the 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mmons supports a community of faculty actively engaged with a worldwide audience of fellow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bout the new NIH policy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H deposit is only voluntary and can be long de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only to NIH-funde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demonstrate that opening access to articles results in wider dissemination and earlier citation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ISI Whitepaper:  Open Access Journals in the ISI Databases:  Analysis of Impact Factors and Citation Patterns,  October 2004 (</a:t>
            </a:r>
            <a:r>
              <a:rPr b="0" lang="en-US" sz="1400" spc="-1" strike="noStrike" u="sng">
                <a:solidFill>
                  <a:srgbClr val="006699"/>
                </a:solidFill>
                <a:uFillTx/>
                <a:latin typeface="Arial"/>
                <a:hlinkClick r:id="rId1"/>
              </a:rPr>
              <a:t>http://www.isinet.com/forms/whitepapers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Antelman, Kristen. Do Open-Access Articles Have a Greater Researc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? College and Research Libraries, 65(5), 372-382. September 2004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e articles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really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cited more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increase of citation rate for open access vs. toll articles in four fields: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osophy 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cience 8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&amp; electronic engineering 5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 9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ata from: Antelman, Kristen. Do Open-Access Articles Have a Greater Researc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? College and Research Libraries, 65(5), 372-382. September 2004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bout the publisher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ublishers do not consider repository release to be “prior submiss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“Na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wish to hinder communication between scientists. For that reason, different embargo guidelines apply to work that has been discussed at a conference or displayed on a preprint server and picked up by the media as a result. (Neither conferences nor preprint servers constitute prior publication.)“ </a:t>
            </a:r>
            <a:r>
              <a:rPr b="0" lang="en-US" sz="2000" spc="-1" strike="noStrike" u="sng">
                <a:solidFill>
                  <a:srgbClr val="006699"/>
                </a:solidFill>
                <a:uFillTx/>
                <a:latin typeface="Arial"/>
                <a:hlinkClick r:id="rId1"/>
              </a:rPr>
              <a:t>http://www.nature.com/nature/author/embargo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journals (84%+) will allow preprints to stay up after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gital Commons timestamps deposits for proof of precedence (for copyright or patent purpo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st journals already allow preprint and/or postprint publish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romeo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New language, new technology,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ld concept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2430360"/>
            <a:ext cx="777240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nstitutional repos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ed library of YOU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services that a university offers to the members of its community for the management and dissemination of digital materials created by the institution and its community members.”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fford Lynch “Institutional Repositories: Essential Infrastructure for Scholarship in the Digital Age”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L Bimonthly Re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2003. (http://www.arl.org/newsltr/226/ir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dvantages of ProQuest’s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igital Commons softwa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peer-review management for journals and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able scree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unique appearance of jour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atistics reported monthly to aut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ification of ne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able full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text indexed in Google &amp; other major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access for private departmental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disser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campus hosting and backup for p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4840" y="1299240"/>
            <a:ext cx="132840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Eng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ho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3110040"/>
            <a:ext cx="2228760" cy="9064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te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ser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3124080"/>
            <a:ext cx="1307880" cy="838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u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533520"/>
            <a:ext cx="1523880" cy="1066680"/>
          </a:xfrm>
          <a:prstGeom prst="cloudCallout">
            <a:avLst>
              <a:gd name="adj1" fmla="val 12500"/>
              <a:gd name="adj2" fmla="val 14717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8760" y="521280"/>
            <a:ext cx="165312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itutional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al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t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320" y="4938480"/>
            <a:ext cx="3393360" cy="1680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al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erenc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Journals &amp; News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onsored by Jefferson De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onsored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1828800"/>
            <a:ext cx="3810240" cy="9144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ffers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000" y="785880"/>
            <a:ext cx="107100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au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32640" y="2827800"/>
            <a:ext cx="2206440" cy="1938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que Librar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Arch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age Col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que Histo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9718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19680" y="4100040"/>
            <a:ext cx="1453680" cy="649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te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48840" y="4100040"/>
            <a:ext cx="1759320" cy="649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SR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y 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5091840"/>
            <a:ext cx="4419720" cy="142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Faculty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urnal Article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roduced at Jeffer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3352320" y="1218960"/>
            <a:ext cx="383400" cy="61020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514600" y="1752480"/>
            <a:ext cx="533520" cy="990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/>
          <p:nvPr/>
        </p:nvCxnSpPr>
        <p:spPr>
          <a:xfrm flipV="1" rot="10800000">
            <a:off x="1142280" y="608040"/>
            <a:ext cx="938880" cy="591120"/>
          </a:xfrm>
          <a:prstGeom prst="curvedConnector2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H="1" rot="16200000">
            <a:off x="2184840" y="1471320"/>
            <a:ext cx="438840" cy="1762920"/>
          </a:xfrm>
          <a:prstGeom prst="curvedConnector5">
            <a:avLst>
              <a:gd name="adj1" fmla="val 152134"/>
              <a:gd name="adj2" fmla="val 50000"/>
              <a:gd name="adj3" fmla="val 152134"/>
            </a:avLst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"/>
          <p:cNvCxnSpPr>
            <a:endCxn id="174" idx="0"/>
          </p:cNvCxnSpPr>
          <p:nvPr/>
        </p:nvCxnSpPr>
        <p:spPr>
          <a:xfrm>
            <a:off x="3467160" y="1066320"/>
            <a:ext cx="179136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"/>
          <p:cNvCxnSpPr>
            <a:stCxn id="172" idx="1"/>
            <a:endCxn id="174" idx="1"/>
          </p:cNvCxnSpPr>
          <p:nvPr/>
        </p:nvCxnSpPr>
        <p:spPr>
          <a:xfrm flipH="1">
            <a:off x="5257440" y="933120"/>
            <a:ext cx="838800" cy="89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78" idx="6"/>
            <a:endCxn id="179" idx="2"/>
          </p:cNvCxnSpPr>
          <p:nvPr/>
        </p:nvCxnSpPr>
        <p:spPr>
          <a:xfrm>
            <a:off x="4441320" y="4424040"/>
            <a:ext cx="443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69" idx="6"/>
            <a:endCxn id="170" idx="2"/>
          </p:cNvCxnSpPr>
          <p:nvPr/>
        </p:nvCxnSpPr>
        <p:spPr>
          <a:xfrm flipV="1">
            <a:off x="2457360" y="3543120"/>
            <a:ext cx="362520" cy="20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3" idx="7"/>
            <a:endCxn id="178" idx="4"/>
          </p:cNvCxnSpPr>
          <p:nvPr/>
        </p:nvCxnSpPr>
        <p:spPr>
          <a:xfrm flipV="1">
            <a:off x="3295800" y="4733280"/>
            <a:ext cx="45144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8" idx="7"/>
            <a:endCxn id="174" idx="2"/>
          </p:cNvCxnSpPr>
          <p:nvPr/>
        </p:nvCxnSpPr>
        <p:spPr>
          <a:xfrm flipV="1">
            <a:off x="4238280" y="2742480"/>
            <a:ext cx="1019880" cy="14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9" idx="0"/>
            <a:endCxn id="174" idx="3"/>
          </p:cNvCxnSpPr>
          <p:nvPr/>
        </p:nvCxnSpPr>
        <p:spPr>
          <a:xfrm flipH="1" flipV="1">
            <a:off x="5257440" y="2742840"/>
            <a:ext cx="4723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0" idx="7"/>
            <a:endCxn id="174" idx="4"/>
          </p:cNvCxnSpPr>
          <p:nvPr/>
        </p:nvCxnSpPr>
        <p:spPr>
          <a:xfrm flipV="1">
            <a:off x="3935160" y="2742840"/>
            <a:ext cx="132300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6" idx="1"/>
            <a:endCxn id="174" idx="5"/>
          </p:cNvCxnSpPr>
          <p:nvPr/>
        </p:nvCxnSpPr>
        <p:spPr>
          <a:xfrm flipH="1" flipV="1">
            <a:off x="5257440" y="2742480"/>
            <a:ext cx="16992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0" idx="0"/>
            <a:endCxn id="179" idx="5"/>
          </p:cNvCxnSpPr>
          <p:nvPr/>
        </p:nvCxnSpPr>
        <p:spPr>
          <a:xfrm flipH="1" flipV="1">
            <a:off x="6324120" y="4642920"/>
            <a:ext cx="15336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does it work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RLs of examp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ornia Digital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"/>
                <a:hlinkClick r:id="rId1"/>
              </a:rPr>
              <a:t>http://repositories.cdlib.org/escholarshi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e-journals and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,000,000 downloads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ton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"/>
                <a:hlinkClick r:id="rId2"/>
              </a:rPr>
              <a:t>http://escholarship.bc.ed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- view e-journal submission process (JT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P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repository.upenn.ed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- dissertations &amp; faculty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y is AISR involved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SR provides leadership on topics of scholarly communication &amp; publishing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n extension of our current mission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digital text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independent digital image collections (JMD, PHD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ccess to print disser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University output (Jeff authors, official record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, classify &amp; preser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epartments can develop publications independently of AIS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conduct peer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and/or staff upload material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SR sets up the submission and review processes for departmental faculty or staff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SR provides training &amp;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pportunities for departmen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 conference proceedings, journals, or departmental newslett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 faculty publ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a professional repository or  clearingho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departmenta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ts for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h outl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for peer revi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&amp; submission of faculty/departmental publ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going partnership with AI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7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oin us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jdc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act for further inform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 Koopm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LINE Edi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Memorial Library, M1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20 Walnut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adelphia, PA  19107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.Koopman@jefferson.ed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5-503-0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tential for many types of u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inghouse for literature of a prof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ation / storage for facult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al tool for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is joining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unity at the forefront of scholarly communications – over 400 now established, and growing worldw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 eScholarship at U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ucdiglib" descr=""/>
          <p:cNvPicPr/>
          <p:nvPr/>
        </p:nvPicPr>
        <p:blipFill>
          <a:blip r:embed="rId1"/>
          <a:stretch/>
        </p:blipFill>
        <p:spPr>
          <a:xfrm>
            <a:off x="576360" y="1066680"/>
            <a:ext cx="79898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 TSpace at U Toro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tspace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U of Queensl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qut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:  DSpace at M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dspace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at can be stored in the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Jefferson Digital Commons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 papers, posters &amp;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s and disser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erson journals &amp; newsletters, with supplementa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l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or clinical documents, data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, sound files,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rints/postprints, books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al “grey litera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40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ommons can function as a University Pr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jtla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1:16:18Z</dcterms:created>
  <dc:creator>ann koopman</dc:creator>
  <dc:description/>
  <dc:language>en-US</dc:language>
  <cp:lastModifiedBy>ann koopman</cp:lastModifiedBy>
  <dcterms:modified xsi:type="dcterms:W3CDTF">2005-04-28T14:05:40Z</dcterms:modified>
  <cp:revision>31</cp:revision>
  <dc:subject/>
  <dc:title>Institutional Repositories:  Starting the Evaluation Process</dc:title>
</cp:coreProperties>
</file>