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8CB-349A-45F4-BB7E-29B950F5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FCD-3DE0-43B6-8062-C36E8C68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75E-8787-4764-AC14-01177B5C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A3C-59EE-4971-8E2B-677CDBAE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0B5-512B-4851-A029-9585508D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6E4-F2BD-4A04-93B5-75256814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449-2F19-4674-A8D2-9CE5BEA0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2C2-04CE-4368-B8E3-FF033BA5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6B2-3256-4037-A470-F1CD3DEE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771-9F2A-4B25-AC5C-28F0EB2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B18-1FFA-4272-BCA9-8C9D7B7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2A3-2EB7-44DC-A718-34AA4B7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BFE5-7402-475F-9A61-B4B43ABA9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us Locus of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a new sc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aine Winter, Ph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Applied Research on Aging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at GSA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Not Addressed in Any Existing Single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etermines the timing of de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length of life God’s wi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ick people have to right to decide when to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divine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by man vs.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 in guidance from God in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95400" y="1782720"/>
          <a:ext cx="7155000" cy="3294000"/>
        </p:xfrm>
        <a:graphic>
          <a:graphicData uri="http://schemas.openxmlformats.org/drawingml/2006/table">
            <a:tbl>
              <a:tblPr/>
              <a:tblGrid>
                <a:gridCol w="4754520"/>
                <a:gridCol w="2400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tzer subscale or new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God's will when my life will 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I try to make sense of the situation and decide what to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out relying on God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itual/Religious Co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I feel guided by God in the midst of daily activ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ily Spiritual Exper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I believe that very sick people have the right to decide wh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y will di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God plays a role in how I choose my path in lif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The length of one's life is determined by G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I work together with God as partners to get through hard tim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itual/Religious Co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I look to God for strength, support, and guidance in cris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itual/Religious Co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I believe in turning my health problems over to G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424240" y="-193680"/>
          <a:ext cx="4297320" cy="7245360"/>
        </p:xfrm>
        <a:graphic>
          <a:graphicData uri="http://schemas.openxmlformats.org/drawingml/2006/table">
            <a:tbl>
              <a:tblPr/>
              <a:tblGrid>
                <a:gridCol w="2583000"/>
                <a:gridCol w="79992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(s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4  (8.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(&gt; high schoo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der (% fema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rican-Ameri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tal status  (% marri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an Catho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wis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/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nbach’s alpha = .9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factor accounting for 68.5 % of varia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09560" y="420840"/>
          <a:ext cx="7726320" cy="6018120"/>
        </p:xfrm>
        <a:graphic>
          <a:graphicData uri="http://schemas.openxmlformats.org/drawingml/2006/table">
            <a:tbl>
              <a:tblPr/>
              <a:tblGrid>
                <a:gridCol w="1897200"/>
                <a:gridCol w="571320"/>
                <a:gridCol w="577800"/>
                <a:gridCol w="679680"/>
                <a:gridCol w="457200"/>
                <a:gridCol w="571320"/>
                <a:gridCol w="571680"/>
                <a:gridCol w="685800"/>
                <a:gridCol w="571320"/>
                <a:gridCol w="571680"/>
                <a:gridCol w="571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.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(W1)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. W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 current health (“as now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0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zheimer's disease w/moderate impair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hysema, limited in your physical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ke w/ some chanc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ke w/ no chanc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a w/ some chanc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7** (2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a w/ no chanc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r cancer but no 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6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r cancer with 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95400" y="2016000"/>
          <a:ext cx="7155000" cy="2825640"/>
        </p:xfrm>
        <a:graphic>
          <a:graphicData uri="http://schemas.openxmlformats.org/drawingml/2006/table">
            <a:tbl>
              <a:tblPr/>
              <a:tblGrid>
                <a:gridCol w="1440000"/>
                <a:gridCol w="571320"/>
                <a:gridCol w="685800"/>
                <a:gridCol w="571680"/>
                <a:gridCol w="457200"/>
                <a:gridCol w="571320"/>
                <a:gridCol w="571680"/>
                <a:gridCol w="685800"/>
                <a:gridCol w="571320"/>
                <a:gridCol w="598680"/>
                <a:gridCol w="4302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u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. W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bio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0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ll bladder surg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9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1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e f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257480" y="390600"/>
          <a:ext cx="6630840" cy="6076800"/>
        </p:xfrm>
        <a:graphic>
          <a:graphicData uri="http://schemas.openxmlformats.org/drawingml/2006/table">
            <a:tbl>
              <a:tblPr/>
              <a:tblGrid>
                <a:gridCol w="1276200"/>
                <a:gridCol w="517680"/>
                <a:gridCol w="595440"/>
                <a:gridCol w="522000"/>
                <a:gridCol w="405000"/>
                <a:gridCol w="517320"/>
                <a:gridCol w="541440"/>
                <a:gridCol w="657360"/>
                <a:gridCol w="544320"/>
                <a:gridCol w="617760"/>
                <a:gridCol w="43632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cu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. W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 current health (“as you are now”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ctr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1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4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ed to bed and chair at home, require help by family or visiting nurses for food, fluids, and medication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3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ed to bed and chair in a nursing home, require nursing care and help for food, fluids, and medication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1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used and not able to recognize others or make decisions for yourself, yet able to walk without help at home. Require help from family for food, liquids, and medication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09840" y="1149480"/>
          <a:ext cx="6126120" cy="4560840"/>
        </p:xfrm>
        <a:graphic>
          <a:graphicData uri="http://schemas.openxmlformats.org/drawingml/2006/table">
            <a:tbl>
              <a:tblPr/>
              <a:tblGrid>
                <a:gridCol w="1811160"/>
                <a:gridCol w="525600"/>
                <a:gridCol w="474840"/>
                <a:gridCol w="485640"/>
                <a:gridCol w="428760"/>
                <a:gridCol w="457200"/>
                <a:gridCol w="342720"/>
                <a:gridCol w="343080"/>
                <a:gridCol w="342720"/>
                <a:gridCol w="457200"/>
                <a:gridCol w="45720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used and not able to recognize others or make decisions for yourself, limited to bed and chair in a nursing home. Require constant nursing care and help for food, fluids, and medicat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0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onscious with no hope of re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have pain that is severe and frequent, though it can be controlled with medic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36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 severe and constant, requires large doses of narcotics. Only when the narcotics put you into a deep sleep are you completely free of pa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5:34:44Z</dcterms:created>
  <dc:creator>laraine winter</dc:creator>
  <dc:description/>
  <dc:language>en-US</dc:language>
  <cp:lastModifiedBy>lma139</cp:lastModifiedBy>
  <dcterms:modified xsi:type="dcterms:W3CDTF">2007-08-17T15:23:58Z</dcterms:modified>
  <cp:revision>4</cp:revision>
  <dc:subject/>
  <dc:title>Religious Locus of Control</dc:title>
</cp:coreProperties>
</file>