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8420-7E3F-43AF-97B3-D4E609AC5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1D6F-2597-46E7-BEA1-CD60F0BC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5A3F-3D89-4BA5-A12E-1D552112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5671-22C0-4948-A036-23A83F86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86BC-AC47-4F63-85C9-E23E9661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AFD7-6536-4B33-810F-2B045422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17EA-A5CD-4007-A843-C6F9EBE3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20C7-CBE2-4400-82BC-03CE1854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E661-0594-4511-92AD-EC60D4CF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F78A-7CA6-4174-8E06-B394D920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6F22-2C83-4BEC-B6FA-1423805C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5B12-68CA-4DA7-B79B-C1C3401E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49E2-D5C8-4484-9BD0-8EBEB2EDC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igious Locus of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of a new sc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aine Winter, Ph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 for Applied Research on Aging and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ed at GSA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sues Not Addressed in Any Existing Single Sc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determines the timing of dea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length of life God’s wi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sick people have to right to decide when to d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a divine pla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by man vs. G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ief in guidance from God in dail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95400" y="1782720"/>
          <a:ext cx="7155000" cy="3294000"/>
        </p:xfrm>
        <a:graphic>
          <a:graphicData uri="http://schemas.openxmlformats.org/drawingml/2006/table">
            <a:tbl>
              <a:tblPr/>
              <a:tblGrid>
                <a:gridCol w="4754520"/>
                <a:gridCol w="24004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r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Fetzer subscale or new it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is God's will when my life will 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 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I try to make sense of the situation and decide what to d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thout relying on God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iritual/Religious Cop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I feel guided by God in the midst of daily activit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ily Spiritual Exper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I believe that very sick people have the right to decide wh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y will die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 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God plays a role in how I choose my path in lif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The length of one's life is determined by Go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 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I work together with God as partners to get through hard time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iritual/Religious Cop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I look to God for strength, support, and guidance in cris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iritual/Religious Cop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I believe in turning my health problems over to Go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 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2424240" y="-193680"/>
          <a:ext cx="4297320" cy="7245360"/>
        </p:xfrm>
        <a:graphic>
          <a:graphicData uri="http://schemas.openxmlformats.org/drawingml/2006/table">
            <a:tbl>
              <a:tblPr/>
              <a:tblGrid>
                <a:gridCol w="2583000"/>
                <a:gridCol w="799920"/>
                <a:gridCol w="914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c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 (s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.4  (8.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 (&gt; high schoo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der (% fema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rican-Americ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ital status  (% marrie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ig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testa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man Cathol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wis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/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nbach’s alpha = .9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factor accounting for 68.5 % of varianc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709560" y="420840"/>
          <a:ext cx="7726320" cy="6018120"/>
        </p:xfrm>
        <a:graphic>
          <a:graphicData uri="http://schemas.openxmlformats.org/drawingml/2006/table">
            <a:tbl>
              <a:tblPr/>
              <a:tblGrid>
                <a:gridCol w="1897200"/>
                <a:gridCol w="571320"/>
                <a:gridCol w="577800"/>
                <a:gridCol w="679680"/>
                <a:gridCol w="457200"/>
                <a:gridCol w="571320"/>
                <a:gridCol w="571680"/>
                <a:gridCol w="685800"/>
                <a:gridCol w="571320"/>
                <a:gridCol w="571680"/>
                <a:gridCol w="57132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cal scen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 (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LO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i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c.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(W1)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. W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our current health (“as now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0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20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zheimer's disease w/moderate impair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7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5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hysema, limited in your physical ac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4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0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3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9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oke w/ some chance of recove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1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5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1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oke w/ no chance of recove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8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9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5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4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5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3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a w/ some chance of recove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7** (2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13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8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3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a w/ no chance of recove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2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9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0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15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ver cancer but no p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6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6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6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17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16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3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ver cancer with p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7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8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4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995400" y="2016000"/>
          <a:ext cx="7155000" cy="2825640"/>
        </p:xfrm>
        <a:graphic>
          <a:graphicData uri="http://schemas.openxmlformats.org/drawingml/2006/table">
            <a:tbl>
              <a:tblPr/>
              <a:tblGrid>
                <a:gridCol w="1440000"/>
                <a:gridCol w="571320"/>
                <a:gridCol w="685800"/>
                <a:gridCol w="571680"/>
                <a:gridCol w="457200"/>
                <a:gridCol w="571320"/>
                <a:gridCol w="571680"/>
                <a:gridCol w="685800"/>
                <a:gridCol w="571320"/>
                <a:gridCol w="598680"/>
                <a:gridCol w="43020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cal scen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 (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LO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i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cu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. W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ibio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30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5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3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2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ll bladder surge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9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8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8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5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3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P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31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4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6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6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be fee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7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8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9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257480" y="390600"/>
          <a:ext cx="6630840" cy="6076800"/>
        </p:xfrm>
        <a:graphic>
          <a:graphicData uri="http://schemas.openxmlformats.org/drawingml/2006/table">
            <a:tbl>
              <a:tblPr/>
              <a:tblGrid>
                <a:gridCol w="1276200"/>
                <a:gridCol w="517680"/>
                <a:gridCol w="595440"/>
                <a:gridCol w="522000"/>
                <a:gridCol w="405000"/>
                <a:gridCol w="517320"/>
                <a:gridCol w="541440"/>
                <a:gridCol w="657360"/>
                <a:gridCol w="544320"/>
                <a:gridCol w="617760"/>
                <a:gridCol w="43632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cal scen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 (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LO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i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cu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. W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our current health (“as you are now”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ctr" pos="303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03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51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24*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mited to bed and chair at home, require help by family or visiting nurses for food, fluids, and medication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3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9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23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5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mited to bed and chair in a nursing home, require nursing care and help for food, fluids, and medication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3*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9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5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21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2*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used and not able to recognize others or make decisions for yourself, yet able to walk without help at home. Require help from family for food, liquids, and medication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2*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8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13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4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509840" y="1149480"/>
          <a:ext cx="6126120" cy="4560840"/>
        </p:xfrm>
        <a:graphic>
          <a:graphicData uri="http://schemas.openxmlformats.org/drawingml/2006/table">
            <a:tbl>
              <a:tblPr/>
              <a:tblGrid>
                <a:gridCol w="1811160"/>
                <a:gridCol w="525600"/>
                <a:gridCol w="474840"/>
                <a:gridCol w="485640"/>
                <a:gridCol w="428760"/>
                <a:gridCol w="457200"/>
                <a:gridCol w="342720"/>
                <a:gridCol w="343080"/>
                <a:gridCol w="342720"/>
                <a:gridCol w="457200"/>
                <a:gridCol w="45720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used and not able to recognize others or make decisions for yourself, limited to bed and chair in a nursing home. Require constant nursing care and help for food, fluids, and medication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0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4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conscious with no hope of recove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5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1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ou have pain that is severe and frequent, though it can be controlled with medicati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36*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in severe and constant, requires large doses of narcotics. Only when the narcotics put you into a deep sleep are you completely free of pai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9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14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4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3T15:34:44Z</dcterms:created>
  <dc:creator>laraine winter</dc:creator>
  <dc:description/>
  <dc:language>en-US</dc:language>
  <cp:lastModifiedBy>lma139</cp:lastModifiedBy>
  <dcterms:modified xsi:type="dcterms:W3CDTF">2007-08-17T15:23:58Z</dcterms:modified>
  <cp:revision>4</cp:revision>
  <dc:subject/>
  <dc:title>Religious Locus of Control</dc:title>
</cp:coreProperties>
</file>