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03F1C-B4E6-4782-958B-CF249BD00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29B86-754E-4696-AB54-7E6EEA14B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103F4-EA39-4340-8BD3-01A34DE22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9311B-E65E-4F92-9E13-A67C3F90D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F81CC1-DA66-453A-85E4-885E951318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D9353-408F-4337-908B-1C4512E26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DFF1B-8D0A-4FE8-ABFD-FD97AEB90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A5675-02D4-403B-A81C-C0009D8F5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C0829-6A3A-4E57-9FDE-5F79C2ABB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7FBD1-ADB8-4109-B2C3-4396D06F5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B8D9E-88DD-4598-9BC7-16077DB91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1F64F-2D7D-412D-85CC-B797FC2C3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F683B-02AE-4806-BFD9-38559A4DD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C8CA3-AB92-4E45-BF16-9141D5287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19899-25AF-4F23-A96F-45C0B0DDE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75A5E-FB00-45E4-BD05-83C7EA593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49033-F92A-4B8C-B46C-689D680255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BF147-19AA-4754-A77A-F3A22B9E4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E53E2-E616-4EBF-B20F-226732C49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4C821-F1DC-4AB2-BCD2-387BC7E2D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B49DD-4362-4FFB-9DC4-F9CB7C505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14966-5AA9-4072-AC95-F023C4206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ED150-B03C-43BA-8663-8C6A06AC5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57A63-B4CC-487F-B268-D16E6C4CB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ADE10-FAFD-4960-8162-9F895F7DA9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1E604-327D-40EF-97B4-FEA85B90A5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127160" y="1555920"/>
            <a:ext cx="6340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517680" y="1403280"/>
            <a:ext cx="8321400" cy="369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ild Cognitive Impairment, Activity Participation,</a:t>
            </a:r>
            <a:r>
              <a:rPr b="0" lang="en-US" sz="2800" spc="-1" strike="noStrike">
                <a:solidFill>
                  <a:srgbClr val="ffffff"/>
                </a:solidFill>
                <a:latin typeface="Tahoma"/>
              </a:rPr>
              <a:t> </a:t>
            </a:r>
            <a:r>
              <a:rPr b="1" lang="en-US" sz="2800" spc="-1" strike="noStrike">
                <a:solidFill>
                  <a:srgbClr val="ffffff"/>
                </a:solidFill>
                <a:latin typeface="Tahoma"/>
              </a:rPr>
              <a:t>Functional Difficulty, &amp; Adaptations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Functionally Vulnerable Elderly Peopl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araine Winter, Ph.D. &amp; Laura N. Gitlin, Ph.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esented at GSA 2006</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6" name=""/>
          <p:cNvGraphicFramePr/>
          <p:nvPr/>
        </p:nvGraphicFramePr>
        <p:xfrm>
          <a:off x="304920" y="685800"/>
          <a:ext cx="8153280" cy="5051520"/>
        </p:xfrm>
        <a:graphic>
          <a:graphicData uri="http://schemas.openxmlformats.org/drawingml/2006/table">
            <a:tbl>
              <a:tblPr/>
              <a:tblGrid>
                <a:gridCol w="2717640"/>
                <a:gridCol w="2718000"/>
                <a:gridCol w="271764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CI Battery Task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nstruction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Scor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lock Draw</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raw the face of a clock, putting in the numbers and setting the hands to eight-twenty or twenty after eigh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 severely impaire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 moderately impaire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 mildly impaire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 = normal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nimal nam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verbal fluenc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ame all the animals you can think of in 60 second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 fewer than 5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 = 5-8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 = 9-12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 = 12 or mo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Serial subtractions b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Times New Roman"/>
                        </a:rPr>
                        <a:t>(</a:t>
                      </a:r>
                      <a:r>
                        <a:rPr b="0" lang="en-US" sz="1600" spc="-1" strike="noStrike">
                          <a:solidFill>
                            <a:srgbClr val="ffffff"/>
                          </a:solidFill>
                          <a:latin typeface="Arial"/>
                          <a:ea typeface="Times New Roman"/>
                        </a:rPr>
                        <a:t>a test of mental control)</a:t>
                      </a:r>
                      <a:r>
                        <a:rPr b="0" i="1"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fter being given the first example (100-3=97), participants subtract three from each successive number, starting with 97.</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One point is given for each incorrect number, to a maximum of 4 error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Delayed intentional recal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repeat and remember three words (ball, flag, tre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number of words </a:t>
                      </a:r>
                      <a:r>
                        <a:rPr b="1" lang="en-US" sz="1200" spc="-1" strike="noStrike">
                          <a:solidFill>
                            <a:srgbClr val="ffffff"/>
                          </a:solidFill>
                          <a:latin typeface="Arial"/>
                          <a:ea typeface="Times New Roman"/>
                        </a:rPr>
                        <a:t>not</a:t>
                      </a:r>
                      <a:r>
                        <a:rPr b="0" lang="en-US" sz="1200" spc="-1" strike="noStrike">
                          <a:solidFill>
                            <a:srgbClr val="ffffff"/>
                          </a:solidFill>
                          <a:latin typeface="Arial"/>
                          <a:ea typeface="Times New Roman"/>
                        </a:rPr>
                        <a:t> recalled is scored, with a maximum of 3.</a:t>
                      </a:r>
                      <a:r>
                        <a:rPr b="0" lang="en-US" sz="1200" spc="-1" strike="noStrike" baseline="30000">
                          <a:solidFill>
                            <a:srgbClr val="ffffff"/>
                          </a:solidFill>
                          <a:latin typeface="Arial"/>
                          <a:ea typeface="Times New Roman"/>
                        </a:rPr>
                        <a:t>1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Spatial and temporal orientation</a:t>
                      </a: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ell me your street and number, town or city, zip code, and phone number with area code. What is  the day of the week, the month, date, and yea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Up to 8 errors are recorded.</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Times New Roman"/>
                        </a:rPr>
                        <a:t>Total  MCI scor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umber of errors for each test was recorded, yielding a possible range of 0 to 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 or higher = MCI or wors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ata analyses</a:t>
            </a:r>
            <a:endParaRPr b="0" lang="en-US" sz="4400" spc="-1" strike="noStrike">
              <a:solidFill>
                <a:srgbClr val="e5ffff"/>
              </a:solidFill>
              <a:latin typeface="Tahoma"/>
            </a:endParaRPr>
          </a:p>
        </p:txBody>
      </p:sp>
      <p:sp>
        <p:nvSpPr>
          <p:cNvPr id="98"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ree separate multiple regression (MR) analyses, each using MCI as the dependent variable and entering demographic characteristics, mood, baseline MMSE score, and treatment assignment in block 1.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first MR entered the count of leisure activities, the second the 17 activities of daily living and mobility items, and the third the 4 types of functional adaptations in block 2</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sults</a:t>
            </a: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t 12 months, nearly 40% scored in the MCI range or wors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ean MMSE dropped slightly from baseline, with 10.1 percent scoring below 24.</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5ffff"/>
                </a:solidFill>
                <a:latin typeface="Tahoma"/>
              </a:rPr>
              <a:t>Leisure Activities </a:t>
            </a:r>
            <a:br>
              <a:rPr sz="4000"/>
            </a:br>
            <a:endParaRPr b="0" lang="en-US" sz="40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ower participation at baseline was associated with higher MCI at 12-month follow-up, over and above MMSE scores, demographic characteristics, mood, and treatment assignment (beta = -.2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3" name=""/>
          <p:cNvGraphicFramePr/>
          <p:nvPr/>
        </p:nvGraphicFramePr>
        <p:xfrm>
          <a:off x="2438280" y="228600"/>
          <a:ext cx="3505320" cy="6367320"/>
        </p:xfrm>
        <a:graphic>
          <a:graphicData uri="http://schemas.openxmlformats.org/drawingml/2006/table">
            <a:tbl>
              <a:tblPr/>
              <a:tblGrid>
                <a:gridCol w="2551320"/>
                <a:gridCol w="954000"/>
              </a:tblGrid>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ffffff"/>
                          </a:solidFill>
                          <a:uFillTx/>
                          <a:latin typeface="Times New Roman"/>
                          <a:ea typeface="Times New Roman"/>
                        </a:rPr>
                        <a:t>ADL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Bet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Bathe or show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Dress from waist up</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Dress from waist dow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Grooming</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Using toile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Eating</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ffffff"/>
                          </a:solidFill>
                          <a:uFillTx/>
                          <a:latin typeface="Times New Roman"/>
                          <a:ea typeface="Times New Roman"/>
                        </a:rPr>
                        <a:t>IADL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Housework</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Shopping</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Using the telephon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Taking medic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Preparing meal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Managing finan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Times New Roman"/>
                        </a:rPr>
                        <a:t> </a:t>
                      </a:r>
                      <a:r>
                        <a:rPr b="1" i="1" lang="en-US" sz="1400" spc="-1" strike="noStrike" u="sng">
                          <a:solidFill>
                            <a:srgbClr val="ffffff"/>
                          </a:solidFill>
                          <a:uFillTx/>
                          <a:latin typeface="Times New Roman"/>
                          <a:ea typeface="Times New Roman"/>
                        </a:rPr>
                        <a:t>Mobilit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Getting in/out of ca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Walking indoor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Walking 1 block</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Climbing 1 flight of stair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Moving in/out of  chai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Moving in/out of bed</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ypes of Activities </a:t>
            </a:r>
            <a:br>
              <a:rPr sz="4000"/>
            </a:br>
            <a:endParaRPr b="0" lang="en-US" sz="4000" spc="-1" strike="noStrike">
              <a:solidFill>
                <a:srgbClr val="e5ffff"/>
              </a:solidFill>
              <a:latin typeface="Tahoma"/>
            </a:endParaRPr>
          </a:p>
        </p:txBody>
      </p:sp>
      <p:sp>
        <p:nvSpPr>
          <p:cNvPr id="105"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aseline difficulty with using the telephone was predictive of MCI at 12 month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aradoxically, MCI was </a:t>
            </a:r>
            <a:r>
              <a:rPr b="1" i="1" lang="en-US" sz="2400" spc="-1" strike="noStrike">
                <a:solidFill>
                  <a:srgbClr val="ffffff"/>
                </a:solidFill>
                <a:latin typeface="Tahoma"/>
              </a:rPr>
              <a:t>inversely </a:t>
            </a:r>
            <a:r>
              <a:rPr b="1" lang="en-US" sz="2400" spc="-1" strike="noStrike">
                <a:solidFill>
                  <a:srgbClr val="ffffff"/>
                </a:solidFill>
                <a:latin typeface="Tahoma"/>
              </a:rPr>
              <a:t>associated with difficulty climbing stairs and taking medication: Cognitively impaired people reported </a:t>
            </a:r>
            <a:r>
              <a:rPr b="1" i="1" lang="en-US" sz="2400" spc="-1" strike="noStrike">
                <a:solidFill>
                  <a:srgbClr val="ffffff"/>
                </a:solidFill>
                <a:latin typeface="Tahoma"/>
              </a:rPr>
              <a:t>less </a:t>
            </a:r>
            <a:r>
              <a:rPr b="1" lang="en-US" sz="2400" spc="-1" strike="noStrike">
                <a:solidFill>
                  <a:srgbClr val="ffffff"/>
                </a:solidFill>
                <a:latin typeface="Tahoma"/>
              </a:rPr>
              <a:t>difficulty with these IADLs .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These inverse relationships were unexpected and are difficult to interpret. Individuals with no cognitive impairment may be performing those tasks more than others and therefore be reporting more difficulty with them.</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6" name=""/>
          <p:cNvGraphicFramePr/>
          <p:nvPr/>
        </p:nvGraphicFramePr>
        <p:xfrm>
          <a:off x="1066680" y="1676520"/>
          <a:ext cx="6782040" cy="3130560"/>
        </p:xfrm>
        <a:graphic>
          <a:graphicData uri="http://schemas.openxmlformats.org/drawingml/2006/table">
            <a:tbl>
              <a:tblPr/>
              <a:tblGrid>
                <a:gridCol w="4935600"/>
                <a:gridCol w="1846440"/>
              </a:tblGrid>
              <a:tr h="92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ypes of Adaptation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Bet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Use of assistive devic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Receiving help fro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other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hange in frequenc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hange in way of performing task</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0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5ffff"/>
                </a:solidFill>
                <a:latin typeface="Tahoma"/>
              </a:rPr>
              <a:t>Types of Adaptations </a:t>
            </a:r>
            <a:br>
              <a:rPr sz="4000"/>
            </a:br>
            <a:endParaRPr b="0" lang="en-US" sz="4000" spc="-1" strike="noStrike">
              <a:solidFill>
                <a:srgbClr val="e5ffff"/>
              </a:solidFill>
              <a:latin typeface="Tahoma"/>
            </a:endParaRPr>
          </a:p>
        </p:txBody>
      </p:sp>
      <p:sp>
        <p:nvSpPr>
          <p:cNvPr id="10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Receiving help from others was the only type of adaptation at Baseline to predict MCI scores at 12 month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This is especially interesting in light of research indicating that families of mildly cognitively impaired elders report greater burden.</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5ffff"/>
                </a:solidFill>
                <a:latin typeface="Tahoma"/>
              </a:rPr>
              <a:t>Implications  </a:t>
            </a:r>
            <a:br>
              <a:rPr sz="4000"/>
            </a:br>
            <a:endParaRPr b="0" lang="en-US" sz="4000" spc="-1" strike="noStrike">
              <a:solidFill>
                <a:srgbClr val="e5ffff"/>
              </a:solidFill>
              <a:latin typeface="Tahoma"/>
            </a:endParaRPr>
          </a:p>
        </p:txBody>
      </p:sp>
      <p:sp>
        <p:nvSpPr>
          <p:cNvPr id="11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3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lderly people whose participation in discretionary activities (social engagements, hobbies, or exercise) has declined, or who require help with activities of daily living, should be considered at risk for MCI and be evaluated. Families who notice such changes should be queried about this aspect of functioning. </a:t>
            </a:r>
            <a:endParaRPr b="0" lang="en-US" sz="2000" spc="-1" strike="noStrike">
              <a:solidFill>
                <a:srgbClr val="ffffff"/>
              </a:solidFill>
              <a:latin typeface="Tahoma"/>
            </a:endParaRPr>
          </a:p>
          <a:p>
            <a:pPr marL="343080" indent="-343080">
              <a:lnSpc>
                <a:spcPct val="13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s practice would provide older adults and their families the opportunity to receive treatment that may delay the onset of MCI and plan for the future.  </a:t>
            </a:r>
            <a:r>
              <a:rPr b="1"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13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paradoxical findings regarding climbing stairs and taking medication should be explored in future research.</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457200" y="914400"/>
            <a:ext cx="7848720" cy="442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ild Cognitive Impairment (MC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atients do not meet criteria for dementia but manifest related clinical features including loss of memory and executive function.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CI is hypothesized to represent an intermediate stage between normal age-associated changes and pathological features of Alzheimer’s disease (AD).</a:t>
            </a:r>
            <a:r>
              <a:rPr b="0" lang="en-US" sz="2000" spc="-1" strike="noStrike">
                <a:solidFill>
                  <a:srgbClr val="ffffff"/>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898560" y="1555920"/>
            <a:ext cx="7483320" cy="251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Value of Recognizing MC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dentify elders at risk and advance prompt diagnosis and treatment. </a:t>
            </a: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2000" spc="-1" strike="noStrike">
                <a:solidFill>
                  <a:srgbClr val="ffffff"/>
                </a:solidFill>
                <a:latin typeface="Tahoma"/>
              </a:rPr>
              <a:t>families of elders with MCI experience significant caregiver burden even at this early stage of impairmen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urpose of Study</a:t>
            </a:r>
            <a:endParaRPr b="0" lang="en-US" sz="4400" spc="-1" strike="noStrike">
              <a:solidFill>
                <a:srgbClr val="e5ffff"/>
              </a:solidFill>
              <a:latin typeface="Tahoma"/>
            </a:endParaRPr>
          </a:p>
        </p:txBody>
      </p:sp>
      <p:sp>
        <p:nvSpPr>
          <p:cNvPr id="86" name="PlaceHolder 2"/>
          <p:cNvSpPr>
            <a:spLocks noGrp="1"/>
          </p:cNvSpPr>
          <p:nvPr>
            <p:ph/>
          </p:nvPr>
        </p:nvSpPr>
        <p:spPr>
          <a:xfrm>
            <a:off x="457200" y="1676520"/>
            <a:ext cx="86868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o identify predictors of MCI, focusing 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a:t>
            </a:r>
            <a:r>
              <a:rPr b="1" i="1" lang="en-US" sz="3200" spc="-1" strike="noStrike">
                <a:solidFill>
                  <a:srgbClr val="ffffff"/>
                </a:solidFill>
                <a:latin typeface="Tahoma"/>
              </a:rPr>
              <a:t>functional difficulti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     </a:t>
            </a:r>
            <a:r>
              <a:rPr b="1" i="1" lang="en-US" sz="3200" spc="-1" strike="noStrike">
                <a:solidFill>
                  <a:srgbClr val="ffffff"/>
                </a:solidFill>
                <a:latin typeface="Tahoma"/>
              </a:rPr>
              <a:t>-adaptations to functional difficulti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     </a:t>
            </a:r>
            <a:r>
              <a:rPr b="1" i="1" lang="en-US" sz="3200" spc="-1" strike="noStrike">
                <a:solidFill>
                  <a:srgbClr val="ffffff"/>
                </a:solidFill>
                <a:latin typeface="Tahoma"/>
              </a:rPr>
              <a:t>-participation in leisure activities</a:t>
            </a:r>
            <a:r>
              <a:rPr b="0" i="1"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articipants</a:t>
            </a:r>
            <a:endParaRPr b="0" lang="en-US" sz="44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27 ABLE participan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MSE score &gt; 23 </a:t>
            </a:r>
            <a:endParaRPr b="0" lang="en-US" sz="32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ctionally vulnerable </a:t>
            </a:r>
            <a:r>
              <a:rPr b="0" lang="en-US" sz="2400" spc="-1" strike="noStrike">
                <a:solidFill>
                  <a:srgbClr val="ffffff"/>
                </a:solidFill>
                <a:latin typeface="Tahoma"/>
              </a:rPr>
              <a:t>(reporting need for help or difficulties with one or more ADL or two or more IAD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9" name=""/>
          <p:cNvGraphicFramePr/>
          <p:nvPr/>
        </p:nvGraphicFramePr>
        <p:xfrm>
          <a:off x="685800" y="838080"/>
          <a:ext cx="7162920" cy="4280040"/>
        </p:xfrm>
        <a:graphic>
          <a:graphicData uri="http://schemas.openxmlformats.org/drawingml/2006/table">
            <a:tbl>
              <a:tblPr/>
              <a:tblGrid>
                <a:gridCol w="3382920"/>
                <a:gridCol w="1316160"/>
                <a:gridCol w="1312920"/>
                <a:gridCol w="1150920"/>
              </a:tblGrid>
              <a:tr h="597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ean (s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Rang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Perc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g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78.3 (5.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70.2-92.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Race (% African-America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44.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Gender (% fe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80.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Education (% &gt; H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44.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Financial WB scor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2.4 (1.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1-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arital status (% marrie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19.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CI scor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3.9 (2.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0-1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Depression score (CES-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13.8 (11.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0-4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MSE at Baselin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27.1 (1.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24-3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MSE at 12 month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26.8 (2.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17-3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easures </a:t>
            </a:r>
            <a:endParaRPr b="0" lang="en-US" sz="4400" spc="-1" strike="noStrike">
              <a:solidFill>
                <a:srgbClr val="e5ffff"/>
              </a:solidFill>
              <a:latin typeface="Tahoma"/>
            </a:endParaRPr>
          </a:p>
        </p:txBody>
      </p:sp>
      <p:sp>
        <p:nvSpPr>
          <p:cNvPr id="91" name="PlaceHolder 2"/>
          <p:cNvSpPr>
            <a:spLocks noGrp="1"/>
          </p:cNvSpPr>
          <p:nvPr>
            <p:ph/>
          </p:nvPr>
        </p:nvSpPr>
        <p:spPr>
          <a:xfrm>
            <a:off x="380880" y="152388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Baseline</a:t>
            </a:r>
            <a:r>
              <a:rPr b="1"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dex of leisure activity participation</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MMSE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ES-D</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6 ADLs, 6 IADLS, 6  mobility items</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lf-reported use of 4 types of adaptations: use of assistive devices, help from others, change in frequency, change in mod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mographic characteristic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Leisure Activities</a:t>
            </a:r>
            <a:endParaRPr b="0" lang="en-US" sz="2000" spc="-1" strike="noStrike">
              <a:solidFill>
                <a:srgbClr val="e5ffff"/>
              </a:solidFill>
              <a:latin typeface="Tahoma"/>
            </a:endParaRPr>
          </a:p>
        </p:txBody>
      </p:sp>
      <p:graphicFrame>
        <p:nvGraphicFramePr>
          <p:cNvPr id="93" name=""/>
          <p:cNvGraphicFramePr/>
          <p:nvPr/>
        </p:nvGraphicFramePr>
        <p:xfrm>
          <a:off x="457200" y="1219320"/>
          <a:ext cx="8229600" cy="5349600"/>
        </p:xfrm>
        <a:graphic>
          <a:graphicData uri="http://schemas.openxmlformats.org/drawingml/2006/table">
            <a:tbl>
              <a:tblPr/>
              <a:tblGrid>
                <a:gridCol w="4119480"/>
                <a:gridCol w="411012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one to a senior center or attended a senior citizen’s group</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ainted pictures or played a musical instrum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tended a church or synagogue servic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aten at a restaurant for a special occasion with friends/relativ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one to meetings of a church group or other groups or club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aby-sat for grandchildren or other childre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one to the movies, theater, concerts, or lectur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one out of town for vacation or to visit friends/relativ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one to a sporting ev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one volunteer work</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3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articipated in a sport like swimming, fishing hunting, bicycling, golf</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one any bak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7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layed cards, bingo, pool, or some other gam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one any read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aken care of house plants or done any outdoor garden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aken care of a pe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Worked on a hobby or handwork like sewing, knitting, or woodwork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Watched TV or listened to the radi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Other activity</a:t>
                      </a: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easures, </a:t>
            </a:r>
            <a:r>
              <a:rPr b="0" i="1" lang="en-US" sz="2000" spc="-1" strike="noStrike">
                <a:solidFill>
                  <a:srgbClr val="e5ffff"/>
                </a:solidFill>
                <a:latin typeface="Tahoma"/>
              </a:rPr>
              <a:t>continued</a:t>
            </a:r>
            <a:endParaRPr b="0" lang="en-US" sz="20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ahoma"/>
              </a:rPr>
              <a:t>12-month follow-up</a:t>
            </a: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MCI batter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M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easures of activity participatio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ES-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24:07Z</dcterms:created>
  <dc:creator>laraine winter</dc:creator>
  <dc:description/>
  <dc:language>en-US</dc:language>
  <cp:lastModifiedBy>laraine winter</cp:lastModifiedBy>
  <dcterms:modified xsi:type="dcterms:W3CDTF">2007-03-12T15:34:18Z</dcterms:modified>
  <cp:revision>3</cp:revision>
  <dc:subject/>
  <dc:title>Slide 1</dc:title>
</cp:coreProperties>
</file>