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2108E-A290-4128-9CD1-8B603C348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8C318-53A4-4A0A-8CF2-8C0E84E92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0E396-1BBD-4060-B31A-F71D4AF6E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01632-B3E3-478E-BADC-AE42AA125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C9036-3D20-4BC2-B8A4-0B2EBE4BF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E3702-D351-425B-96D9-259ED15A8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49E42-56E9-4D28-9069-11CE2E98B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95586-A926-4649-8470-7F6F2A84C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B76B6-8CEF-476B-AC3D-72ADA6E96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B2B49-3FFF-44A9-ADCC-73D589242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FC330-0C5F-47ED-9F1A-094D12C2C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3EE53-59DB-4CC4-A549-FD73A9B16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55166-22F1-442D-8196-0BDDC64CE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733D-B6C9-4A56-8794-88B6AAD09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3ED4A-82CB-4402-B20E-17CFAAD23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9F11F-6BBD-459C-AD44-510A60EF8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C8662-3573-4851-807C-2F1F2EC88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714C-E5DC-410E-98FE-682B0AF72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A5A97-AE32-4E53-B94C-3217B81BC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3B8A1-3A88-40D5-B506-E27B09746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7374E-2561-4B82-A237-B5A49C9E3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1D54-EB51-48CD-BBB0-81724B700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EF1D-CAD0-48A1-908B-100329D4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281B-6782-4CCA-BD58-919A157D4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BAA5-6475-4967-A14A-92DF43577A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B7C0-6D96-4DA0-B378-243F026722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127160" y="1555920"/>
            <a:ext cx="6340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517680" y="1403280"/>
            <a:ext cx="8321400" cy="369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ld Cognitive Impairment, Activity Participation,</a:t>
            </a:r>
            <a:r>
              <a:rPr b="0" lang="en-US" sz="2800" spc="-1" strike="noStrike">
                <a:solidFill>
                  <a:srgbClr val="ffffff"/>
                </a:solidFill>
                <a:latin typeface="Tahoma"/>
              </a:rPr>
              <a:t> </a:t>
            </a:r>
            <a:r>
              <a:rPr b="1" lang="en-US" sz="2800" spc="-1" strike="noStrike">
                <a:solidFill>
                  <a:srgbClr val="ffffff"/>
                </a:solidFill>
                <a:latin typeface="Tahoma"/>
              </a:rPr>
              <a:t>Functional Difficulty, &amp; Adaptations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Functionally Vulnerable Elderly Peopl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raine Winter, Ph.D. &amp; Laura N. Gitlin, Ph.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sented at GSA 200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304920" y="685800"/>
          <a:ext cx="8153280" cy="5051520"/>
        </p:xfrm>
        <a:graphic>
          <a:graphicData uri="http://schemas.openxmlformats.org/drawingml/2006/table">
            <a:tbl>
              <a:tblPr/>
              <a:tblGrid>
                <a:gridCol w="2717640"/>
                <a:gridCol w="2718000"/>
                <a:gridCol w="27176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CI Battery Task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nstruction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cor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lock Draw</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raw the face of a clock, putting in the numbers and setting the hands to eight-twenty or twenty after eigh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severely impair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moderately impair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mildly impair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 = normal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imal nam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verbal fluenc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ame all the animals you can think of in 60 second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fewer than 5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 5-8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 9-12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 = 12 or mo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Serial subtractions b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Times New Roman"/>
                        </a:rPr>
                        <a:t>(</a:t>
                      </a:r>
                      <a:r>
                        <a:rPr b="0" lang="en-US" sz="1600" spc="-1" strike="noStrike">
                          <a:solidFill>
                            <a:srgbClr val="ffffff"/>
                          </a:solidFill>
                          <a:latin typeface="Arial"/>
                          <a:ea typeface="Times New Roman"/>
                        </a:rPr>
                        <a:t>a test of mental control)</a:t>
                      </a:r>
                      <a:r>
                        <a:rPr b="0" i="1"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fter being given the first example (100-3=97), participants subtract three from each successive number, starting with 9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ne point is given for each incorrect number, to a maximum of 4 error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Delayed intentional recal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peat and remember three words (ball, flag, tre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number of words </a:t>
                      </a:r>
                      <a:r>
                        <a:rPr b="1" lang="en-US" sz="1200" spc="-1" strike="noStrike">
                          <a:solidFill>
                            <a:srgbClr val="ffffff"/>
                          </a:solidFill>
                          <a:latin typeface="Arial"/>
                          <a:ea typeface="Times New Roman"/>
                        </a:rPr>
                        <a:t>not</a:t>
                      </a:r>
                      <a:r>
                        <a:rPr b="0" lang="en-US" sz="1200" spc="-1" strike="noStrike">
                          <a:solidFill>
                            <a:srgbClr val="ffffff"/>
                          </a:solidFill>
                          <a:latin typeface="Arial"/>
                          <a:ea typeface="Times New Roman"/>
                        </a:rPr>
                        <a:t> recalled is scored, with a maximum of 3.</a:t>
                      </a:r>
                      <a:r>
                        <a:rPr b="0" lang="en-US" sz="1200" spc="-1" strike="noStrike" baseline="30000">
                          <a:solidFill>
                            <a:srgbClr val="ffffff"/>
                          </a:solidFill>
                          <a:latin typeface="Arial"/>
                          <a:ea typeface="Times New Roman"/>
                        </a:rPr>
                        <a:t>1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Spatial and temporal orientation</a:t>
                      </a: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ell me your street and number, town or city, zip code, and phone number with area code. What is  the day of the week, the month, date, and yea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p to 8 errors are recorded.</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Times New Roman"/>
                        </a:rPr>
                        <a:t>Total  MCI scor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umber of errors for each test was recorded, yielding a possible range of 0 to 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or higher = MCI or wor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ta analyses</a:t>
            </a:r>
            <a:endParaRPr b="0" lang="en-US" sz="4400" spc="-1" strike="noStrike">
              <a:solidFill>
                <a:srgbClr val="e5ffff"/>
              </a:solidFill>
              <a:latin typeface="Tahoma"/>
            </a:endParaRPr>
          </a:p>
        </p:txBody>
      </p:sp>
      <p:sp>
        <p:nvSpPr>
          <p:cNvPr id="98"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ree separate multiple regression (MR) analyses, each using MCI as the dependent variable and entering demographic characteristics, mood, baseline MMSE score, and treatment assignment in block 1.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irst MR entered the count of leisure activities, the second the 17 activities of daily living and mobility items, and the third the 4 types of functional adaptations in block 2</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sult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12 months, nearly 40% scored in the MCI range or wors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an MMSE dropped slightly from baseline, with 10.1 percent scoring below 24.</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ffff"/>
                </a:solidFill>
                <a:latin typeface="Tahoma"/>
              </a:rPr>
              <a:t>Leisure Activities </a:t>
            </a:r>
            <a:br>
              <a:rPr sz="4000"/>
            </a:b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ower participation at baseline was associated with higher MCI at 12-month follow-up, over and above MMSE scores, demographic characteristics, mood, and treatment assignment (beta = -.2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2438280" y="228600"/>
          <a:ext cx="3505320" cy="6367320"/>
        </p:xfrm>
        <a:graphic>
          <a:graphicData uri="http://schemas.openxmlformats.org/drawingml/2006/table">
            <a:tbl>
              <a:tblPr/>
              <a:tblGrid>
                <a:gridCol w="2551320"/>
                <a:gridCol w="95400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Times New Roman"/>
                          <a:ea typeface="Times New Roman"/>
                        </a:rPr>
                        <a:t>AD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Bet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Bathe or show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Dress from waist u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Dress from waist dow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Groom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Using toile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Eat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Times New Roman"/>
                          <a:ea typeface="Times New Roman"/>
                        </a:rPr>
                        <a:t>IAD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Housework</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Shopp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Using the telepho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Taking medic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Preparing mea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Managing finan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 </a:t>
                      </a:r>
                      <a:r>
                        <a:rPr b="1" i="1" lang="en-US" sz="1400" spc="-1" strike="noStrike" u="sng">
                          <a:solidFill>
                            <a:srgbClr val="ffffff"/>
                          </a:solidFill>
                          <a:uFillTx/>
                          <a:latin typeface="Times New Roman"/>
                          <a:ea typeface="Times New Roman"/>
                        </a:rPr>
                        <a:t>Mobili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Getting in/out of ca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Walking indoo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Walking 1 block</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Climbing 1 flight of stai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Moving in/out of  chai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Moving in/out of b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ypes of Activities </a:t>
            </a:r>
            <a:br>
              <a:rPr sz="4000"/>
            </a:br>
            <a:endParaRPr b="0" lang="en-US" sz="4000" spc="-1" strike="noStrike">
              <a:solidFill>
                <a:srgbClr val="e5ffff"/>
              </a:solidFill>
              <a:latin typeface="Tahoma"/>
            </a:endParaRPr>
          </a:p>
        </p:txBody>
      </p:sp>
      <p:sp>
        <p:nvSpPr>
          <p:cNvPr id="105"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seline difficulty with using the telephone was predictive of MCI at 12 month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radoxically, MCI was </a:t>
            </a:r>
            <a:r>
              <a:rPr b="1" i="1" lang="en-US" sz="2400" spc="-1" strike="noStrike">
                <a:solidFill>
                  <a:srgbClr val="ffffff"/>
                </a:solidFill>
                <a:latin typeface="Tahoma"/>
              </a:rPr>
              <a:t>inversely </a:t>
            </a:r>
            <a:r>
              <a:rPr b="1" lang="en-US" sz="2400" spc="-1" strike="noStrike">
                <a:solidFill>
                  <a:srgbClr val="ffffff"/>
                </a:solidFill>
                <a:latin typeface="Tahoma"/>
              </a:rPr>
              <a:t>associated with difficulty climbing stairs and taking medication: Cognitively impaired people reported </a:t>
            </a:r>
            <a:r>
              <a:rPr b="1" i="1" lang="en-US" sz="2400" spc="-1" strike="noStrike">
                <a:solidFill>
                  <a:srgbClr val="ffffff"/>
                </a:solidFill>
                <a:latin typeface="Tahoma"/>
              </a:rPr>
              <a:t>less </a:t>
            </a:r>
            <a:r>
              <a:rPr b="1" lang="en-US" sz="2400" spc="-1" strike="noStrike">
                <a:solidFill>
                  <a:srgbClr val="ffffff"/>
                </a:solidFill>
                <a:latin typeface="Tahoma"/>
              </a:rPr>
              <a:t>difficulty with these IADLs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These inverse relationships were unexpected and are difficult to interpret. Individuals with no cognitive impairment may be performing those tasks more than others and therefore be reporting more difficulty with them.</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1066680" y="1676520"/>
          <a:ext cx="6782040" cy="3130560"/>
        </p:xfrm>
        <a:graphic>
          <a:graphicData uri="http://schemas.openxmlformats.org/drawingml/2006/table">
            <a:tbl>
              <a:tblPr/>
              <a:tblGrid>
                <a:gridCol w="4935600"/>
                <a:gridCol w="1846440"/>
              </a:tblGrid>
              <a:tr h="92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ypes of Adaptation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et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se of assistive devic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ceiving help fr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othe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ange in frequenc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ange in way of performing tas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ffff"/>
                </a:solidFill>
                <a:latin typeface="Tahoma"/>
              </a:rPr>
              <a:t>Types of Adaptations </a:t>
            </a:r>
            <a:br>
              <a:rPr sz="4000"/>
            </a:br>
            <a:endParaRPr b="0" lang="en-US" sz="4000" spc="-1" strike="noStrike">
              <a:solidFill>
                <a:srgbClr val="e5ffff"/>
              </a:solidFill>
              <a:latin typeface="Tahoma"/>
            </a:endParaRPr>
          </a:p>
        </p:txBody>
      </p:sp>
      <p:sp>
        <p:nvSpPr>
          <p:cNvPr id="10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Receiving help from others was the only type of adaptation at Baseline to predict MCI scores at 12 month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This is especially interesting in light of research indicating that families of mildly cognitively impaired elders report greater burde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ffff"/>
                </a:solidFill>
                <a:latin typeface="Tahoma"/>
              </a:rPr>
              <a:t>Implications  </a:t>
            </a:r>
            <a:br>
              <a:rPr sz="4000"/>
            </a:br>
            <a:endParaRPr b="0" lang="en-US" sz="4000" spc="-1" strike="noStrike">
              <a:solidFill>
                <a:srgbClr val="e5ffff"/>
              </a:solidFill>
              <a:latin typeface="Tahoma"/>
            </a:endParaRPr>
          </a:p>
        </p:txBody>
      </p:sp>
      <p:sp>
        <p:nvSpPr>
          <p:cNvPr id="11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3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lderly people whose participation in discretionary activities (social engagements, hobbies, or exercise) has declined, or who require help with activities of daily living, should be considered at risk for MCI and be evaluated. Families who notice such changes should be queried about this aspect of functioning. </a:t>
            </a:r>
            <a:endParaRPr b="0" lang="en-US" sz="2000" spc="-1" strike="noStrike">
              <a:solidFill>
                <a:srgbClr val="ffffff"/>
              </a:solidFill>
              <a:latin typeface="Tahoma"/>
            </a:endParaRPr>
          </a:p>
          <a:p>
            <a:pPr marL="343080" indent="-343080">
              <a:lnSpc>
                <a:spcPct val="13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practice would provide older adults and their families the opportunity to receive treatment that may delay the onset of MCI and plan for the future.  </a:t>
            </a: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13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aradoxical findings regarding climbing stairs and taking medication should be explored in future research.</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457200" y="914400"/>
            <a:ext cx="784872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ld Cognitive Impairment (MC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tients do not meet criteria for dementia but manifest related clinical features including loss of memory and executive function.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CI is hypothesized to represent an intermediate stage between normal age-associated changes and pathological features of Alzheimer’s disease (AD).</a:t>
            </a:r>
            <a:r>
              <a:rPr b="0" lang="en-US" sz="2000" spc="-1" strike="noStrike">
                <a:solidFill>
                  <a:srgbClr val="ffffff"/>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98560" y="1555920"/>
            <a:ext cx="7483320" cy="251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alue of Recognizing MC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dentify elders at risk and advance prompt diagnosis and treatment. </a:t>
            </a:r>
            <a:endParaRPr b="0" lang="en-US" sz="20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2000" spc="-1" strike="noStrike">
                <a:solidFill>
                  <a:srgbClr val="ffffff"/>
                </a:solidFill>
                <a:latin typeface="Tahoma"/>
              </a:rPr>
              <a:t>families of elders with MCI experience significant caregiver burden even at this early stage of impair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urpose of Study</a:t>
            </a:r>
            <a:endParaRPr b="0" lang="en-US" sz="4400" spc="-1" strike="noStrike">
              <a:solidFill>
                <a:srgbClr val="e5ffff"/>
              </a:solidFill>
              <a:latin typeface="Tahoma"/>
            </a:endParaRPr>
          </a:p>
        </p:txBody>
      </p:sp>
      <p:sp>
        <p:nvSpPr>
          <p:cNvPr id="86" name="PlaceHolder 2"/>
          <p:cNvSpPr>
            <a:spLocks noGrp="1"/>
          </p:cNvSpPr>
          <p:nvPr>
            <p:ph/>
          </p:nvPr>
        </p:nvSpPr>
        <p:spPr>
          <a:xfrm>
            <a:off x="457200" y="1676520"/>
            <a:ext cx="8686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identify predictors of MCI, focusing 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t>
            </a:r>
            <a:r>
              <a:rPr b="1" i="1" lang="en-US" sz="3200" spc="-1" strike="noStrike">
                <a:solidFill>
                  <a:srgbClr val="ffffff"/>
                </a:solidFill>
                <a:latin typeface="Tahoma"/>
              </a:rPr>
              <a:t>functional difficulti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a:t>
            </a:r>
            <a:r>
              <a:rPr b="1" i="1" lang="en-US" sz="3200" spc="-1" strike="noStrike">
                <a:solidFill>
                  <a:srgbClr val="ffffff"/>
                </a:solidFill>
                <a:latin typeface="Tahoma"/>
              </a:rPr>
              <a:t>-adaptations to functional difficul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a:t>
            </a:r>
            <a:r>
              <a:rPr b="1" i="1" lang="en-US" sz="3200" spc="-1" strike="noStrike">
                <a:solidFill>
                  <a:srgbClr val="ffffff"/>
                </a:solidFill>
                <a:latin typeface="Tahoma"/>
              </a:rPr>
              <a:t>-participation in leisure activities</a:t>
            </a:r>
            <a:r>
              <a:rPr b="0" i="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rticipants</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7 ABLE participa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MSE score &gt; 23 </a:t>
            </a:r>
            <a:endParaRPr b="0" lang="en-US" sz="32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tionally vulnerable </a:t>
            </a:r>
            <a:r>
              <a:rPr b="0" lang="en-US" sz="2400" spc="-1" strike="noStrike">
                <a:solidFill>
                  <a:srgbClr val="ffffff"/>
                </a:solidFill>
                <a:latin typeface="Tahoma"/>
              </a:rPr>
              <a:t>(reporting need for help or difficulties with one or more ADL or two or more IAD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685800" y="838080"/>
          <a:ext cx="7162920" cy="4280040"/>
        </p:xfrm>
        <a:graphic>
          <a:graphicData uri="http://schemas.openxmlformats.org/drawingml/2006/table">
            <a:tbl>
              <a:tblPr/>
              <a:tblGrid>
                <a:gridCol w="3382920"/>
                <a:gridCol w="1316160"/>
                <a:gridCol w="1312920"/>
                <a:gridCol w="1150920"/>
              </a:tblGrid>
              <a:tr h="597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ean (s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an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erc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g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78.3 (5.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70.2-92.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ace (% African-Americ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44.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Gender (% fe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80.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Education (% &gt; H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44.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Financial WB scor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4 (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arital status (% marri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9.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CI scor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3.9 (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Depression score (CES-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3.8 (11.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4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MSE at Baseli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7.1 (1.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4-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MSE at 12 month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6.8 (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7-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asures </a:t>
            </a:r>
            <a:endParaRPr b="0" lang="en-US" sz="4400" spc="-1" strike="noStrike">
              <a:solidFill>
                <a:srgbClr val="e5ffff"/>
              </a:solidFill>
              <a:latin typeface="Tahoma"/>
            </a:endParaRPr>
          </a:p>
        </p:txBody>
      </p:sp>
      <p:sp>
        <p:nvSpPr>
          <p:cNvPr id="91"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Baseline</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dex of leisure activity participation</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MSE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ES-D</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6 ADLs, 6 IADLS, 6  mobility item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lf-reported use of 4 types of adaptations: use of assistive devices, help from others, change in frequency, change in mod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mographic characteristic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Leisure Activities</a:t>
            </a:r>
            <a:endParaRPr b="0" lang="en-US" sz="2000" spc="-1" strike="noStrike">
              <a:solidFill>
                <a:srgbClr val="e5ffff"/>
              </a:solidFill>
              <a:latin typeface="Tahoma"/>
            </a:endParaRPr>
          </a:p>
        </p:txBody>
      </p:sp>
      <p:graphicFrame>
        <p:nvGraphicFramePr>
          <p:cNvPr id="93" name=""/>
          <p:cNvGraphicFramePr/>
          <p:nvPr/>
        </p:nvGraphicFramePr>
        <p:xfrm>
          <a:off x="457200" y="1219320"/>
          <a:ext cx="8229600" cy="5349600"/>
        </p:xfrm>
        <a:graphic>
          <a:graphicData uri="http://schemas.openxmlformats.org/drawingml/2006/table">
            <a:tbl>
              <a:tblPr/>
              <a:tblGrid>
                <a:gridCol w="4119480"/>
                <a:gridCol w="411012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a senior center or attended a senior citizen’s grou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ainted pictures or played a musical instru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tended a church or synagogue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ten at a restaurant for a special occasion with friends/relativ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meetings of a church group or other groups or club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aby-sat for grandchildren or other childre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the movies, theater, concerts, or lectur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out of town for vacation or to visit friends/relativ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one to a sporting ev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ne volunteer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3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articipated in a sport like swimming, fishing hunting, bicycling, gol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ne any bak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layed cards, bingo, pool, or some other gam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ne any rea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aken care of house plants or done any outdoor garden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aken care of a pe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orked on a hobby or handwork like sewing, knitting, or woodwork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atched TV or listened to the radi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ther activity</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asures, </a:t>
            </a:r>
            <a:r>
              <a:rPr b="0" i="1" lang="en-US" sz="2000" spc="-1" strike="noStrike">
                <a:solidFill>
                  <a:srgbClr val="e5ffff"/>
                </a:solidFill>
                <a:latin typeface="Tahoma"/>
              </a:rPr>
              <a:t>continued</a:t>
            </a:r>
            <a:endParaRPr b="0" lang="en-US" sz="20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12-month follow-up</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CI batter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M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asures of activity particip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S-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24:07Z</dcterms:created>
  <dc:creator>laraine winter</dc:creator>
  <dc:description/>
  <dc:language>en-US</dc:language>
  <cp:lastModifiedBy>laraine winter</cp:lastModifiedBy>
  <dcterms:modified xsi:type="dcterms:W3CDTF">2007-03-12T15:34:18Z</dcterms:modified>
  <cp:revision>3</cp:revision>
  <dc:subject/>
  <dc:title>Slide 1</dc:title>
</cp:coreProperties>
</file>