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ABD45-25C3-4AEF-B192-40FCD90DB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86A83-AA1F-41E5-86DF-A70DDEAE2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BE4E3-C726-4140-A1BF-6A5D2CC1E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6BAF2-070C-4A6C-9919-A5CA72010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9C2F-EAEC-46D4-9F5D-34CA0D9DA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FB7F0-CB1E-46E6-8F94-C7E4639BC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9713-C6D0-4A8F-B9E3-6A342915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0FA8-D83B-42DF-887C-B62616EC5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8AA8-DB0B-434A-BDB2-38B515104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B069-0460-4CCD-B77C-20194844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54FD-35FF-4E62-90FC-619A206F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D090-3901-47F4-BC01-5E9274EA5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D2FD-4897-41BA-AB43-88C31DDE9F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jm107@jefferson.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7720"/>
            <a:ext cx="7772400" cy="276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Tension of Loss in Old Ag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048120"/>
            <a:ext cx="6400800" cy="25905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aramond"/>
              </a:rPr>
              <a:t>C.Caruso &amp; H.Black</a:t>
            </a:r>
            <a:r>
              <a:rPr b="0" lang="en-US" sz="2800" spc="-1" strike="noStrike">
                <a:solidFill>
                  <a:srgbClr val="000000"/>
                </a:solidFill>
                <a:latin typeface="Garamond"/>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omas Jefferson University,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enter for Applied Research on Aging and Health (CARAH),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130 South 9th Street, Philadelphia, PA 19107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aramond"/>
                <a:hlinkClick r:id="rId2"/>
              </a:rPr>
              <a:t>cjm107@jefferson.edu</a:t>
            </a:r>
            <a:r>
              <a:rPr b="0" lang="en-US" sz="2800" spc="-1" strike="noStrike">
                <a:solidFill>
                  <a:srgbClr val="000000"/>
                </a:solidFill>
                <a:latin typeface="Garamon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Loss of Her Childhood</a:t>
            </a:r>
            <a:endParaRPr b="0" lang="en-US" sz="4400" spc="-1" strike="noStrike">
              <a:solidFill>
                <a:srgbClr val="000000"/>
              </a:solidFill>
              <a:latin typeface="Arial"/>
            </a:endParaRPr>
          </a:p>
        </p:txBody>
      </p:sp>
      <p:sp>
        <p:nvSpPr>
          <p:cNvPr id="61" name="PlaceHolder 2"/>
          <p:cNvSpPr>
            <a:spLocks noGrp="1"/>
          </p:cNvSpPr>
          <p:nvPr>
            <p:ph/>
          </p:nvPr>
        </p:nvSpPr>
        <p:spPr>
          <a:xfrm>
            <a:off x="457200" y="1523880"/>
            <a:ext cx="4038480" cy="4602240"/>
          </a:xfrm>
          <a:prstGeom prst="rect">
            <a:avLst/>
          </a:prstGeom>
          <a:noFill/>
          <a:ln w="0">
            <a:noFill/>
          </a:ln>
        </p:spPr>
        <p:txBody>
          <a:bodyPr lIns="90000" rIns="90000" tIns="46800" bIns="46800" anchor="t">
            <a:normAutofit fontScale="88000"/>
          </a:bodyPr>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Well my mother’s role was- to have an older daughter who did all the scud work. So when the store (family owned) was closed I helped her- either preserve something or bake something.</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But with my brothers and sister I was like an assistant caretaker.  </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And ah, my father relied on me- I did his bookkeeping.</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 </a:t>
            </a:r>
            <a:r>
              <a:rPr b="1" lang="en-US" sz="1600" spc="-1" strike="noStrike">
                <a:solidFill>
                  <a:srgbClr val="ff66cc"/>
                </a:solidFill>
                <a:latin typeface="Garamond"/>
              </a:rPr>
              <a:t>As I said no respect, my mother assumed that this is what I was supposed to do and that’s what I did.”</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a:t>
            </a:r>
            <a:r>
              <a:rPr b="1" lang="en-US" sz="1600" spc="-1" strike="noStrike">
                <a:solidFill>
                  <a:srgbClr val="ff66cc"/>
                </a:solidFill>
                <a:latin typeface="Garamond"/>
              </a:rPr>
              <a:t>I wanted to go to college but my mother needed me times were not that great. She needed me because there were 2 children and a business…</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roughout the three interviews Mrs. W felt ambivalent about her role as helper.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ere is a tension between the role of helper that gave meaning to her life and the amount of time she sacrificed.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 </a:t>
            </a:r>
            <a:r>
              <a:rPr b="1" lang="en-US" sz="1800" spc="-1" strike="noStrike">
                <a:solidFill>
                  <a:srgbClr val="009999"/>
                </a:solidFill>
                <a:latin typeface="Garamond"/>
              </a:rPr>
              <a:t>While her family acknowledged her help they never gave her the respect that she felt she deserved.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At times it seemed the role of helper gave her a purpose but other times she sounded resentful at all the time she had to sacrifice for her family.</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ss of Her Career Goal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a:t>
            </a:r>
            <a:r>
              <a:rPr b="1" lang="en-US" sz="1800" spc="-1" strike="noStrike">
                <a:solidFill>
                  <a:srgbClr val="ff66cc"/>
                </a:solidFill>
                <a:latin typeface="Garamond"/>
              </a:rPr>
              <a:t>All the time, when I had jobs everybody was most appreciative.  I was a good bookkeeper, I was a good supervisor, I had 14 girls working for me everybody got along with me.  I was appreciated, but at home nobody appreciated m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a:t>
            </a:r>
            <a:r>
              <a:rPr b="1" lang="en-US" sz="1800" spc="-1" strike="noStrike">
                <a:solidFill>
                  <a:srgbClr val="ff66cc"/>
                </a:solidFill>
                <a:latin typeface="Garamond"/>
              </a:rPr>
              <a:t>I worked 12 years at American Mutual I was the head bookkeeper  and my husband said, “I need you” and I quit the job where I could have had a pension. I used to laugh about it.  I used to work 37 hours now I work 73 and it was assumed that I could and would, all my lif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1" lang="en-US" sz="2800" spc="-1" strike="noStrike">
                <a:solidFill>
                  <a:srgbClr val="009999"/>
                </a:solidFill>
                <a:latin typeface="Garamond"/>
              </a:rPr>
              <a:t>Mrs. W had a loss of self confidence, respect and her independence.  She gave up her identity for a career that she chose and excelled in to working for her husband, just like when she had to work for her parents as a ch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Garamond"/>
              </a:rPr>
              <a:t>Mrs. W’s Theory of Loss </a:t>
            </a:r>
            <a:br>
              <a:rPr sz="4000"/>
            </a:br>
            <a:r>
              <a:rPr b="0" lang="en-US" sz="4000" spc="-1" strike="noStrike">
                <a:solidFill>
                  <a:srgbClr val="000000"/>
                </a:solidFill>
                <a:latin typeface="Garamond"/>
              </a:rPr>
              <a:t>as it contrasts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I accept life as it is, if that’s a strength. I mean I did the best I could.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r>
              <a:rPr b="1" lang="en-US" sz="1800" spc="-1" strike="noStrike">
                <a:solidFill>
                  <a:srgbClr val="ff66cc"/>
                </a:solidFill>
                <a:latin typeface="Garamond"/>
              </a:rPr>
              <a:t>You know, I’m not a sufferer as such. I mean all my life I’ve been an acceptor of a person’s fate and when I see something (sad, sorrowful) I think this is the way it has to b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 accepted my husband’s death. I walked from the hospital to my apartment and I cried and I cried and I cried. I said, you know I was lucky. I was lucky to have him 35 more years. He was a very strong person.</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a:t>
            </a:r>
            <a:r>
              <a:rPr b="1" lang="en-US" sz="1800" spc="-1" strike="noStrike">
                <a:solidFill>
                  <a:srgbClr val="009999"/>
                </a:solidFill>
                <a:latin typeface="Garamond"/>
              </a:rPr>
              <a:t>Doing her best” meant being a “cheerleader” for others, a source of support that important others could count on, even to the point of giving up her own career or goal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Some of the demands this role placed on her were overwhelming. Yet, the role also made sense as a purpose in life.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Mrs. W’s comment about acceptance of suffering reflects her worldview: life unfolds as it must, and to rehash the fates or those who cause suffering through unkindness or cruelty, is a useless pastime.</a:t>
            </a:r>
            <a:r>
              <a:rPr b="1" lang="en-US" sz="1800" spc="-1" strike="noStrike">
                <a:solidFill>
                  <a:srgbClr val="000000"/>
                </a:solidFill>
                <a:latin typeface="Garamond"/>
              </a:rPr>
              <a:t>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Lived Experience of Los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Mrs. W’s theory about  loss cannot hold the pain or the suffering of the actual experience.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Something Mrs. W cannot accept is the loss of her daughter who fought with a disease for 21 year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 I think these 2 statements need to be switches because usually her theory of loss does hold the pain of her suffering just not in the case with her daughter)</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endParaRPr b="0" lang="en-US" sz="1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Garamond"/>
              </a:rPr>
              <a:t>I said, ‘We have always pulled her out of the valley of the shadow. She’s only 55. You mean to say they can’t…?  They said her other organs are beginning to shut down. Well, I think to me that was the saddest day of my life. And even with that, I couldn’t accept i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Heaviness</a:t>
            </a:r>
            <a:endParaRPr b="0" lang="en-US" sz="4000" spc="-1" strike="noStrike">
              <a:solidFill>
                <a:srgbClr val="000000"/>
              </a:solidFill>
              <a:latin typeface="Arial"/>
            </a:endParaRPr>
          </a:p>
        </p:txBody>
      </p:sp>
      <p:sp>
        <p:nvSpPr>
          <p:cNvPr id="7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1000"/>
          </a:bodyPr>
          <a:p>
            <a:pPr marL="312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When I was suffering the loss of my child in her final days that was really heavy.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You know, when I couldn’t joke about anything, when I couldn’t see a sense of humor in anything, even the daily things.</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And that meant that I was the heaviest person around in strength.</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Garamond"/>
              </a:rPr>
              <a:t>“</a:t>
            </a:r>
            <a:r>
              <a:rPr b="1" lang="en-US" sz="2000" spc="-1" strike="noStrike">
                <a:solidFill>
                  <a:srgbClr val="ff66cc"/>
                </a:solidFill>
                <a:latin typeface="Garamond"/>
              </a:rPr>
              <a:t>Heaviness” becomes a personal metaphor for her identity. Heaviness implies carrying a great weight; breathing is difficult, lightheartedness is impossible.  Heaviness is the opposite of strength.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Her suffering remains active; it is a daily weight that she carries as part of herself and keeps her ‘heavy.’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Loss of H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The day—I remember this conference with three doctors and our family sitting there and telling us, “There’s no hope for Barbara</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I always, maybe, maybe.  And they said there was no hope. It was…I couldn’t even cry it was that deep. </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Her funeral was nothing compared to the day that they told me all these experts that “there was absolutely no hope. You know you live with it 21 years and you think it will go away.</a:t>
            </a:r>
            <a:endParaRPr b="0" lang="en-US" sz="1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Mrs. W. brings up a significant component in her experience of suffering. Suffering occurs when hope is gone. </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 importance of hope as a mechanism for coping with sorrows; the meaning of hope as an outward turning view; the comfort of hope as looking ahead.</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Stagnan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e weight of her pain keeps her stagnant, unable to move forward or overcome her sorrow. This is different from her defining moments in the past, when she was able to evaluate the circumstance, cry, and move on.</a:t>
            </a:r>
            <a:r>
              <a:rPr b="1" lang="en-US" sz="1800" spc="-1" strike="noStrike">
                <a:solidFill>
                  <a:srgbClr val="000000"/>
                </a:solidFill>
                <a:latin typeface="Garamond"/>
              </a:rPr>
              <a:t> </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Barbara’s birthday every year I want to hide somewhere. I don’t know why, the day she passed is, I even forgot the date, by that time I accepted her death, but I feel the person she could have been if she hadn’t been ill. I always go through all of the things that</a:t>
            </a:r>
            <a:endParaRPr b="0" lang="en-US" sz="1800" spc="-1" strike="noStrike">
              <a:solidFill>
                <a:srgbClr val="000000"/>
              </a:solidFill>
              <a:latin typeface="Arial"/>
            </a:endParaRPr>
          </a:p>
          <a:p>
            <a:pPr marL="308520" indent="-3085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r>
              <a:rPr b="1" lang="en-US" sz="1800" spc="-1" strike="noStrike">
                <a:solidFill>
                  <a:srgbClr val="ff66cc"/>
                </a:solidFill>
                <a:latin typeface="Garamond"/>
              </a:rPr>
              <a:t>she did.</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5000"/>
          </a:bodyPr>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re is a beautiful poignancy in Mrs. W’s description of her daughter’s personality as thwarted because of her illness, and her potential not being realized because of her early death.</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Both she and Barbara become stagnant because of her death.  Mrs. W is lost in a moment in time. She doesn’t grow in time and she is unable to accomplish anyth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000000"/>
                </a:solidFill>
                <a:latin typeface="Garamond"/>
              </a:rPr>
              <a:t>The Futur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When you lose a child, that’s suffering. That is something that when you close your eyes at night you feel. And it’s almost the last thing you think of.</a:t>
            </a:r>
            <a:endParaRPr b="0" lang="en-US" sz="3200" spc="-1" strike="noStrike">
              <a:solidFill>
                <a:srgbClr val="000000"/>
              </a:solidFill>
              <a:latin typeface="Arial"/>
            </a:endParaRPr>
          </a:p>
        </p:txBody>
      </p:sp>
      <p:sp>
        <p:nvSpPr>
          <p:cNvPr id="83" name="PlaceHolder 3"/>
          <p:cNvSpPr>
            <a:spLocks noGrp="1"/>
          </p:cNvSpPr>
          <p:nvPr>
            <p:ph/>
          </p:nvPr>
        </p:nvSpPr>
        <p:spPr>
          <a:xfrm>
            <a:off x="4800600" y="175248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100000"/>
              </a:lnSpc>
              <a:spcBef>
                <a:spcPts val="9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Garamond"/>
              </a:rPr>
              <a:t>For Mrs. W, the years that are left seem bleak and pointless. There are some sorrows that cannot be overc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onclusion:</a:t>
            </a:r>
            <a:br>
              <a:rPr sz="4000"/>
            </a:br>
            <a:r>
              <a:rPr b="0" lang="en-US" sz="4000" spc="-1" strike="noStrike">
                <a:solidFill>
                  <a:srgbClr val="ff66cc"/>
                </a:solidFill>
                <a:latin typeface="Garamond"/>
              </a:rPr>
              <a:t>A New Identity</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If a world or self view has ‘worked’ for an individual throughout their life, it may be difficult to alter that viewpoint in old ag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Suffering often heralds a need to re-evaluate the self, but this could not occur for Mrs. W.   Fate had made too great a mistake with the death of her daughter and she was unable to accept the loss.  Where does she go from her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re is an idealized daughter, rather than an idealized self. Rather than acceptance, there is the imagined what could have been, what ought to be. Death was wrong here; fate made a mistake. ( Do we want to work this into the abov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Garamond"/>
              </a:rPr>
              <a:t>Her narrative has implications for health care professionals involved in any type of grief work.</a:t>
            </a:r>
            <a:r>
              <a:rPr b="0" lang="en-US" sz="3200" spc="-1" strike="noStrike">
                <a:solidFill>
                  <a:srgbClr val="ff66cc"/>
                </a:solidFill>
                <a:latin typeface="Arial"/>
              </a:rPr>
              <a:t>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	</a:t>
            </a:r>
            <a:r>
              <a:rPr b="0" lang="en-US" sz="2800" spc="-1" strike="noStrike">
                <a:solidFill>
                  <a:srgbClr val="ff66cc"/>
                </a:solidFill>
                <a:latin typeface="Arial"/>
              </a:rPr>
              <a:t>	</a:t>
            </a:r>
            <a:r>
              <a:rPr b="0" lang="en-US" sz="2800" spc="-1" strike="noStrike">
                <a:solidFill>
                  <a:srgbClr val="ff66cc"/>
                </a:solidFill>
                <a:latin typeface="Arial"/>
              </a:rPr>
              <a:t>	</a:t>
            </a:r>
            <a:r>
              <a:rPr b="0" lang="en-US" sz="2800" spc="-1" strike="noStrike">
                <a:solidFill>
                  <a:srgbClr val="ff66cc"/>
                </a:solidFill>
                <a:latin typeface="Arial"/>
              </a:rPr>
              <a:t>  </a:t>
            </a:r>
            <a:r>
              <a:rPr b="1" lang="en-US" sz="3200" spc="-1" strike="noStrike">
                <a:solidFill>
                  <a:srgbClr val="009999"/>
                </a:solidFill>
                <a:latin typeface="Garamond"/>
              </a:rPr>
              <a:t>Grief is ongoing</a:t>
            </a:r>
            <a:endParaRPr b="0" lang="en-US" sz="3200" spc="-1" strike="noStrike">
              <a:solidFill>
                <a:srgbClr val="000000"/>
              </a:solidFill>
              <a:latin typeface="Arial"/>
            </a:endParaRPr>
          </a:p>
          <a:p>
            <a:pPr lvl="4" marL="2057400" indent="-228600">
              <a:lnSpc>
                <a:spcPct val="100000"/>
              </a:lnSpc>
              <a:spcBef>
                <a:spcPts val="799"/>
              </a:spcBef>
              <a:buClr>
                <a:srgbClr val="009999"/>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There are sometimes no answers</a:t>
            </a:r>
            <a:endParaRPr b="0" lang="en-US" sz="3200" spc="-1" strike="noStrike">
              <a:solidFill>
                <a:srgbClr val="000000"/>
              </a:solidFill>
              <a:latin typeface="Arial"/>
            </a:endParaRPr>
          </a:p>
          <a:p>
            <a:pPr lvl="4" marL="2057400" indent="-228600">
              <a:lnSpc>
                <a:spcPct val="100000"/>
              </a:lnSpc>
              <a:spcBef>
                <a:spcPts val="799"/>
              </a:spcBef>
              <a:buClr>
                <a:srgbClr val="009999"/>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Humility</a:t>
            </a:r>
            <a:endParaRPr b="0" lang="en-US" sz="3200" spc="-1" strike="noStrike">
              <a:solidFill>
                <a:srgbClr val="000000"/>
              </a:solidFill>
              <a:latin typeface="Arial"/>
            </a:endParaRPr>
          </a:p>
          <a:p>
            <a:pPr lvl="4" marL="2057400" indent="0">
              <a:lnSpc>
                <a:spcPct val="10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Im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cc"/>
                </a:solidFill>
                <a:latin typeface="Garamond"/>
              </a:rPr>
              <a:t>To qualitatively explore the personal meaning of suffering to community-dwelling elders aged 80+</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Elders are stratified by ethnicity, gender and self-reported health.</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Respondents report their life story, story of suffering and personal definitions of suffering during 3 private open ended interviews in their home.</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General Purpose of Larger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aramond"/>
              </a:rPr>
              <a:t>Because loss emerges as a significant aspect of suffering in elders’ narratives, we focus on suffering as loss.</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Garamond"/>
              </a:rPr>
              <a:t>By old age, elders have endured many significant losses (loved ones, work, loss of mobility, cognitive losses) and are considered more familiar with loss than younger persons.</a:t>
            </a:r>
            <a:r>
              <a:rPr b="0" lang="en-US" sz="2400" spc="-1" strike="noStrike">
                <a:solidFill>
                  <a:srgbClr val="ff66cc"/>
                </a:solidFill>
                <a:latin typeface="Garamond"/>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Most respondents use personal or social tools, such as strong self-view, optimism, or keeping busy in order to manage the suffering that results from loss.</a:t>
            </a:r>
            <a:r>
              <a:rPr b="0" lang="en-US" sz="2400" spc="-1" strike="noStrike">
                <a:solidFill>
                  <a:srgbClr val="009999"/>
                </a:solidFill>
                <a:latin typeface="Garamond"/>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PECIFIC PURPO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A personal theory about loss such as acceptance or accepting one’s fate is different from the lived experienc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In this poster we use a case study to demonstrate how one elderly woman’s standard of accepting loss failed in the face of a loss that she could not accept.</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aramond"/>
              </a:rPr>
              <a:t>If a world or self view has ‘worked’ for an individual throughout their life, it may be difficult to alter that viewpoint in old ag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BSTR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does Mrs. W handle the tens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search Question</a:t>
            </a:r>
            <a:r>
              <a:rPr b="0" lang="en-US" sz="4400" spc="-1" strike="noStrike">
                <a:solidFill>
                  <a:srgbClr val="000000"/>
                </a:solidFill>
                <a:latin typeface="Garamond"/>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ckground -- Identity</a:t>
            </a:r>
            <a:br>
              <a:rPr sz="3200"/>
            </a:br>
            <a:r>
              <a:rPr b="0" lang="en-US" sz="3200" spc="-1" strike="noStrike">
                <a:solidFill>
                  <a:srgbClr val="000000"/>
                </a:solidFill>
                <a:latin typeface="Garamond"/>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dentity is formed by the meaning individuals give to their familial and social roles, such as in this case, daughter, worker, wife, mother, fri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 loss of any of these roles requires the difficult work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cknowledging the altered facts of one’s lif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measuring losses against what re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nd recreating one’s identity, perhaps with new ro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ders may retain an ‘old’ identity that makes room for suffering or they may accept a different, limited view of the sel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r some elders, new roles or identities seem closed off because individuals perceive that there is too little time left to pursue them. ( Charmaz, 19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ethods</a:t>
            </a:r>
            <a:r>
              <a:rPr b="0" lang="en-US" sz="4400" spc="-1" strike="noStrike">
                <a:solidFill>
                  <a:srgbClr val="000000"/>
                </a:solidFill>
                <a:latin typeface="Garamond"/>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Form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Private, tape-recorded interview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ree sessions (Total of 6 hou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Open-ended ques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formal conversation </a:t>
            </a:r>
            <a:endParaRPr b="0" lang="en-US" sz="2800" spc="-1" strike="noStrike">
              <a:solidFill>
                <a:srgbClr val="000000"/>
              </a:solidFill>
              <a:latin typeface="Arial"/>
            </a:endParaRPr>
          </a:p>
          <a:p>
            <a:pPr marL="343080" indent="-343080">
              <a:lnSpc>
                <a:spcPct val="8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Analys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tandard methods of qualitative resear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Narrative analysis - selected portion o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text was examined especially for themes of </a:t>
            </a:r>
            <a:r>
              <a:rPr b="0" lang="en-US" sz="2800" spc="-1" strike="noStrike">
                <a:solidFill>
                  <a:srgbClr val="000000"/>
                </a:solidFill>
                <a:latin typeface="Garamond"/>
              </a:rPr>
              <a:t>	</a:t>
            </a:r>
            <a:r>
              <a:rPr b="0" lang="en-US" sz="2800" spc="-1" strike="noStrike">
                <a:solidFill>
                  <a:srgbClr val="000000"/>
                </a:solidFill>
                <a:latin typeface="Garamond"/>
              </a:rPr>
              <a:t>loss, as well as entire tran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Findings Presented As:</a:t>
            </a:r>
            <a:br>
              <a:rPr sz="4000"/>
            </a:br>
            <a:r>
              <a:rPr b="0" lang="en-US" sz="4000" spc="-1" strike="noStrike">
                <a:solidFill>
                  <a:srgbClr val="000000"/>
                </a:solidFill>
                <a:latin typeface="Garamond"/>
              </a:rPr>
              <a:t> Case Studi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Case studies</a:t>
            </a:r>
            <a:r>
              <a:rPr b="0" lang="en-US" sz="3200" spc="-1" strike="noStrike">
                <a:solidFill>
                  <a:srgbClr val="000000"/>
                </a:solidFill>
                <a:latin typeface="Garamond"/>
              </a:rPr>
              <a:t> penetrate the context (Their life story) in which the phenomenon (Loss) is found</a:t>
            </a:r>
            <a:endParaRPr b="0" lang="en-US" sz="3200" spc="-1" strike="noStrike">
              <a:solidFill>
                <a:srgbClr val="000000"/>
              </a:solidFill>
              <a:latin typeface="Arial"/>
            </a:endParaRPr>
          </a:p>
          <a:p>
            <a:pPr marL="308520" indent="-308520">
              <a:lnSpc>
                <a:spcPct val="90000"/>
              </a:lnSpc>
              <a:spcBef>
                <a:spcPts val="7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Case studies</a:t>
            </a:r>
            <a:r>
              <a:rPr b="0" lang="en-US" sz="3200" spc="-1" strike="noStrike">
                <a:solidFill>
                  <a:srgbClr val="000000"/>
                </a:solidFill>
                <a:latin typeface="Garamond"/>
              </a:rPr>
              <a:t> illustrate significance of…</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individual biography</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ohort history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urrent place and time</a:t>
            </a:r>
            <a:endParaRPr b="0" lang="en-US" sz="3200" spc="-1" strike="noStrike">
              <a:solidFill>
                <a:srgbClr val="000000"/>
              </a:solidFill>
              <a:latin typeface="Arial"/>
            </a:endParaRPr>
          </a:p>
          <a:p>
            <a:pPr marL="308520" indent="-308520">
              <a:lnSpc>
                <a:spcPct val="9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A case study</a:t>
            </a:r>
            <a:r>
              <a:rPr b="0" lang="en-US" sz="3200" spc="-1" strike="noStrike">
                <a:solidFill>
                  <a:srgbClr val="000000"/>
                </a:solidFill>
                <a:latin typeface="Garamond"/>
              </a:rPr>
              <a:t> informs by its uniqueness as well as by aspects it shares with data in the same study</a:t>
            </a:r>
            <a:endParaRPr b="0" lang="en-US" sz="32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Garamond"/>
              </a:rPr>
              <a:t>Case Study: Mrs. W</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88-year-old Caucasian woman </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Lives in Philadelphia, owns a condo in a high rise building</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Self described in good health</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Widow</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Self described as caretaker, cheerleader and caregiver</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Worked in parents’ store, as husband’s bookkeeper and as caretaker for younger sib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20:29:21Z</dcterms:created>
  <dc:creator>cjm107</dc:creator>
  <dc:description/>
  <dc:language>en-US</dc:language>
  <cp:lastModifiedBy>Helen Black</cp:lastModifiedBy>
  <dcterms:modified xsi:type="dcterms:W3CDTF">2005-10-24T14:03:54Z</dcterms:modified>
  <cp:revision>12</cp:revision>
  <dc:subject/>
  <dc:title>The Tension of Loss in Old Age</dc:title>
</cp:coreProperties>
</file>