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wmf" ContentType="image/x-wmf"/>
  <Override PartName="/ppt/media/image25.wmf" ContentType="image/x-wmf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ED8-3B08-41AC-9C2B-6DB11AD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B97-1C4C-45A1-948B-454726C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C3D-D61E-4BF9-870F-C647AC2E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C18-CAFE-4C24-8AA7-80E67A4C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73D6-58A0-4B14-858D-96CF973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F78-0C2F-47C1-B5C3-3F36CDA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85F-BEAE-4161-ADCD-765CD93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87B2-CAC9-4343-B46E-EC28F93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DF18-7662-4129-AB77-4D8AF26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30AB-385F-4DB8-A362-DD40733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44D9-0817-4293-8DD3-46943E7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2CD-B06A-4D61-9C57-4887A67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8CB-AA8A-4A9E-8A01-22560F1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556A-B0BB-4466-B5D3-BBFB520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4BE8-5A70-4F68-9E23-F840342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3EC0-9F1B-4219-ACA6-FEB5C5CE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372C-6975-4C40-9651-1A3485BF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358-BA65-43FB-A06E-AF450BE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1C9-7CDE-46C0-89B1-3D94E85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934-EAF7-4D09-8BFB-170D66B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A12-8794-465F-8AE8-410B67D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64A-CE78-42B9-BDF6-3E25589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DDB-F6A3-4AF0-99E0-94D6182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C8A-9E30-4BA7-8283-0CF439D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BB8-B257-4912-BD27-57D209D76B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81C0-D6E3-4914-B09D-3CFF4354BB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400" spc="-1" strike="noStrike">
                <a:solidFill>
                  <a:srgbClr val="ffcc66"/>
                </a:solidFill>
                <a:latin typeface="Times New Roman"/>
              </a:rPr>
              <a:t>Innovation in Occupational Therapy Practice </a:t>
            </a:r>
            <a:br>
              <a:rPr sz="3400"/>
            </a:br>
            <a:br>
              <a:rPr sz="34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Evidence of OT Effectiveness in Working with Family Caregivers of  Individuals with Dement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esults from the NIH REACH Initiativ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aura N. Gitlin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rofessor, Department of Occupational Therap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Director, Community and Homecare Research Division, Thomas Jefferson Universit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Funded by NIA # U01 AG 01326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838080"/>
            <a:ext cx="2976480" cy="1399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ress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are Recipient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Soci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Physic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289548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Appraisals of Demands and Adaptive Capac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05320"/>
            <a:ext cx="2209680" cy="368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erceived St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267080"/>
            <a:ext cx="243864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Physiological, Affective, Behavioral Respon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715000"/>
            <a:ext cx="2209680" cy="916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ncreased Risk for Mental/Physical Health Probl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143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PRIMARY TARGE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Environmental Strategies Targeting Care Recipient, and/or Social and Physic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5146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SECONDARY  TARGE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Environmental Strategies Targeting Caregiver Cognitive Skills and Knowled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1371600"/>
            <a:ext cx="0" cy="35812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75248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8600" y="4648320"/>
            <a:ext cx="83808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52280" y="1752480"/>
            <a:ext cx="0" cy="289584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343400" y="17524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28954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33920" y="13716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ress Health Process Mode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2860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2004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4864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920" y="49528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6160" y="5410800"/>
            <a:ext cx="3748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chulz R (Ed) </a:t>
            </a:r>
            <a:r>
              <a:rPr b="0" i="1" lang="en-US" sz="18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Handbook on Dementi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Caregiving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, (pp. 33-56), NY: Springe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vironment as Treatment Modali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in competence-environmental press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olves modification to physical, task and social dimensions of environments (Barris et 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pos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hieve balance between environmental demands (press) and person capabilities (competenci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duce environmental press to match person capabil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rease excess dis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1899720" y="4302360"/>
            <a:ext cx="1428480" cy="207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60520"/>
            <a:ext cx="0" cy="584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6400800"/>
            <a:ext cx="767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303120" y="1751040"/>
            <a:ext cx="4852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ETE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1440800">
            <a:off x="1039320" y="1061280"/>
            <a:ext cx="454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affect &amp;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1544000">
            <a:off x="1447560" y="99036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ladaptive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510920" y="914400"/>
            <a:ext cx="1384200" cy="548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70840" y="998640"/>
            <a:ext cx="1763640" cy="541944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64771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NVIRONMENTAL P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1885400">
            <a:off x="2284560" y="213300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2094200">
            <a:off x="3125880" y="982800"/>
            <a:ext cx="423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ZONE OF MAXIMUM COMF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0"/>
            <a:ext cx="56386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e-environmental Press Model – Lawton and Nahemow 197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2556800">
            <a:off x="3505320" y="220860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aptation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91120" y="1523520"/>
            <a:ext cx="728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1447920"/>
            <a:ext cx="4952880" cy="49528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494600">
            <a:off x="4683960" y="303120"/>
            <a:ext cx="42372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ZONE OF MAXIMUM PERFORMANCE POTENT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9144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OSTIVE AFFECT &amp; ADAPTIVE BEHAVI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257800" y="304920"/>
            <a:ext cx="263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1447920"/>
            <a:ext cx="4953240" cy="4952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3597200">
            <a:off x="4419360" y="281628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3915200">
            <a:off x="5444640" y="3240360"/>
            <a:ext cx="4546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affect &amp;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3969200">
            <a:off x="5486040" y="357876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ladaptive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For Persons with Dementia </a:t>
            </a:r>
            <a:br>
              <a:rPr sz="3800"/>
            </a:b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Use Environmental Modifications To: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disori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way fi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port function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activity engag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imize behavioral disturbanc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For Family Caregivers </a:t>
            </a:r>
            <a:br>
              <a:rPr sz="3800"/>
            </a:b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Use Environmental Modifications To: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personal 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hance ability to manage day to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hance mast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str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need for assis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amount of time in hands-on superv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idence of Effectiveness of Environment Approa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itutional-based researc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cial Dementia Un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duction of disruptive behavi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hancement of orientation, eng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-home descriptive stud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mily CGs modify homes for safety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milies lack information about equipment and environmental strateg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lkins, (1989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esign for dementi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; Pynoos &amp; Ohta (1991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Occupational Therapy and Physical Therapy in Geriatrics, 9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, 83-92;  Gitlin &amp; Corcoran, (1996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Technology and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isability, 2, 112-21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idence of Effectiveness of Environment Approa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 month in-home OT environmental intervention (NIA) with 202 caregiver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ows decline in CR’s IADL and ADL depend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hances CG self-efficac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s upset with ADL dependence and behavior disturb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men benefit more than men caregi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 (2001).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41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4-1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(1999).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Family Relations, 48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363-372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ME ENVIRONMENTAL SKILL-BUILDING PROTGRAM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(ESP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H REACH Multi-site 6 year initi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 sites each testing a different inter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ila site – ESP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 on previous dementia stu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eater intensity, more systematic, installation of equi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ined broader range of outcomes and validation of previous find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66760"/>
            <a:ext cx="8458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udy Design and Assessment Interva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905120"/>
          <a:ext cx="88390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839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952880" y="4114800"/>
            <a:ext cx="8384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334120"/>
            <a:ext cx="8380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6248520"/>
            <a:ext cx="8380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aseline Characteristics of Sample (N = 255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4.5% fem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.2% Wh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.8% African Ameri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%  O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8.8% Spo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1.2% Non spo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Team Memb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Co-investigat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y Corcoran, Ph.D., OTR/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san Klein, MS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Project Manag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araine Winter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andy Schinfeld, M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Data management/analy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ie Dennis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y Barnet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Walter Hauck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erview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nnemarie Grego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ulie Liebman, 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erventionis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eri Shaw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racey Vause Earland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san Eckhardt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inda Levy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oz Lipsett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m Kearney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55 Caregivers enroll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0 had 6-month data availabl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89 experimental, 101 contr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% rate of attr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haracteristics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haracteristi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EAN (S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Age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1.01 (14.3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Education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2.23 (2.6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ears Caregiv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4.24 (3.7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 MM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2.30 (7.05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depress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.90 (11.6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1523880"/>
            <a:ext cx="7848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vironmental Skill-building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gram (ESP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nvironmental Skill-building Program (ESP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CTIVE PH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6 Months -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 home visits &amp; 1 tele-contac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ducation about role of environment and demen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ills in problem-solving, simplifying the environment to address 11 potential problem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chnical support (e.g., adaptive devices and training in u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vention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s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assessment; education about dementia, identification of problem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problem solving about target problem (antecedents, behavior, consequenc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3-5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and telephone 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troduce, practice, modify, refine strategies for each target problem; installation of equipment, adaptive de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review strategies, generaliz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even Target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are Recipie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ile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tastrophic Re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nde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isure/IA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regiver-centered concer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ercent of Caregivers Who Addressed Problem Are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thing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3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ile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3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ess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14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13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    37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obilit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4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tastrophic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2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c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nder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2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4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isure/IAD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45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regi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ncern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6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hysical Modification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 the H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all equipment and assistive de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rrange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bel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or contrast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ce objects in sequence of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Corcoran, M., &amp; Gitlin, L.N. (1991, Fall/Winter).  Environmental influences on behavior of the elderly with dementia: Principles for intervention in the home.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imes New Roman"/>
              </a:rPr>
              <a:t>Occupational and Physical Therapy in Geriatrics, 9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3&amp;4), 5-21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51814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1080" y="1390680"/>
            <a:ext cx="37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Bathroom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Equipment</a:t>
            </a: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040" y="2276640"/>
            <a:ext cx="28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ub ben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oilet r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rab b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and held show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ng handl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o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ictur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-57240"/>
            <a:ext cx="43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4648320" cy="487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98920" y="12384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ed 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608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4572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Overview of Pres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ick facts about family caregi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 as treatment mod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IH REACH initi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al Skill-building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 outco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nical guidelin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lus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715000" cy="6477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1066680"/>
            <a:ext cx="2514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Clut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ori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gi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creased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6440" y="1523880"/>
            <a:ext cx="3187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clutt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w dem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ppropriat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fortable an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l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creas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39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aregiver Conce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76480"/>
            <a:ext cx="28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 confu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819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appropriate dr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2240" y="1017720"/>
            <a:ext cx="370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lor contr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bject 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revious ha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Outcom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creased indepen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27160" y="142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1447920"/>
            <a:ext cx="31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sorienting cue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37824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d duct tape for color contr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094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ite commode on white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05320" y="914040"/>
            <a:ext cx="4114800" cy="685800"/>
          </a:xfrm>
          <a:prstGeom prst="line">
            <a:avLst/>
          </a:prstGeom>
          <a:ln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962520"/>
            <a:ext cx="2666880" cy="761760"/>
          </a:xfrm>
          <a:prstGeom prst="line">
            <a:avLst/>
          </a:prstGeom>
          <a:ln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7160" y="-8568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24280" y="30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13372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sual Cue to prevent eg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3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880" y="762120"/>
            <a:ext cx="2637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ase Scen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tract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or 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ear of mal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5640" y="3505320"/>
            <a:ext cx="325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First Set of Strateg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ed placem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hite pl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ne food i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ere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o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3360" y="142920"/>
            <a:ext cx="33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97960" y="806400"/>
            <a:ext cx="438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Use of turb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ulturally appropria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servation of ro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duce distra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ifications to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ask Dimens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short verbal/written instr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Provide verbal/tactile cue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ep needed items in easy re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ify activ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Plan a routin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Instruct CR through demonst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2002, Strategies Used by Families to Simplify Tasks for Individuals with Alzheimer's Disease and Related Disorders: Psychometric Analysis of the Task Management Strategy Index (TMSI). 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imes New Roman"/>
              </a:rPr>
              <a:t>The Gerontolog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962520" cy="5486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1905120"/>
            <a:ext cx="3074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Tactile cue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Short 1 to 2 step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" y="22860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800600" cy="6248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286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04920"/>
            <a:ext cx="3581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Caregiver complaint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G Back p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ure how to involve father in dr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114800"/>
            <a:ext cx="2743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erbal cue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y out clothing in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roper body mechan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4038480" cy="548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3276720"/>
            <a:ext cx="363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trateg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petitive mo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implified tas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et up objec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served ro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8720" y="685800"/>
            <a:ext cx="349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ase Scenari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G no time for sel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R bored, agit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09480" y="-936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Task Environm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3504960" cy="5486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5486400" cy="4267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85440" y="21924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4960" y="1778040"/>
            <a:ext cx="302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ntrol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gagement of C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ail for bal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ification to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cial Dimens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Help coordinate care among social net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Instruct in assertiveness and communication sk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CG develop consistency in interactions with C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CG involve others in daily care prov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73840" y="4986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ocial Dimen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752480"/>
            <a:ext cx="33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ducate childr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elp with inte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s ESP Effectiv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o Benefits from ESP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Men vs. wo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Spouses vs. non-spo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rican American  vs. Wh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bjective Caregiver Burde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reduce amount of help needed for ADL car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days in a week have other family members or friends (not being paid) provided help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elp with ADL Activit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77880" y="1905120"/>
          <a:ext cx="792468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79246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11240" y="6216480"/>
            <a:ext cx="78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(Geometric) Days of  Help with ADL Activities by Treatment Condition 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2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bjective Caregiver Burde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reduce amount of time providing car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how many hours a day do you estimate that you are actually doing things for CR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e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2 year old wife caring for 75 year old husband with moderate stage dementi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sband verbally ab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kes up several times at n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iculty with dressing and bathing but resists c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es to leave 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spicious of visi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 had several fa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tant superv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egiver has osteoporosis and high blood pres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egiver providing care for 8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840" y="382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tal Hours Doing Things for the CR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1440" y="1192320"/>
          <a:ext cx="81277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92320"/>
                    <a:ext cx="81277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51520" y="6216480"/>
            <a:ext cx="77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(Geometric) Hours Doing things by Treatment Condition and Gende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41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jective Caregiver Burden 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es ESP reduce caregiver upset with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ory-related behavior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ruptive behavi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- 0 (Not at all) to 4 (Extreme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w score indicate less up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y-related Behavior Ups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77880" y="1908000"/>
          <a:ext cx="819468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8000"/>
                    <a:ext cx="819468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72000" y="6216480"/>
            <a:ext cx="73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Memory-related Behavior Upset by Treatment Condition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27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ruptive Behavior Upset: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onship Eff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77880" y="1905120"/>
          <a:ext cx="826308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82630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9360" y="6216480"/>
            <a:ext cx="90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Disruptive Behavior Upset by Treatment Condition and Relationship  to C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18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hancement of Well-be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enhance caregiver affect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past month have your feelings of being (angry) gotten much worse, somewhat worse, stayed the same, improve somewhat, improved a l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itlin, et al (submitted) Caregiver appraisals of w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ing:  The Perceived Change In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erceived Change in Aff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812880" y="1905120"/>
          <a:ext cx="75866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905120"/>
                    <a:ext cx="75866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04280" y="6216480"/>
            <a:ext cx="61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Perceived Change by Treatment Condition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38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nhancement of Skill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enhance caregiver skills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past month have your ability to manage day to day caregiving gotten much worse, somewhat worse, stayed the same, improve somewhat, improved a l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493560" y="1876320"/>
          <a:ext cx="829008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876320"/>
                    <a:ext cx="829008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947880" y="6248520"/>
            <a:ext cx="77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reatment  by Gender Interaction Effects on Enhancement Variables (P=.043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4840" y="3805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Ability to Manage Day to Day</a:t>
            </a:r>
            <a:br>
              <a:rPr sz="3300"/>
            </a:b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hanced Maste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es ESP enhance caregiver’s sense of personal master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.g.,  “How often do you feel you should be doing more for CR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awton, Kleban, Moss, Rovine, &amp; Glicksman (1989) Measuring caregiver appraisal.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Journal of Gerontology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, P61-P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stery: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77880" y="1905120"/>
          <a:ext cx="8128080" cy="42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812808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68280" y="6216480"/>
            <a:ext cx="63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Mastery by Treatment Condition and Gende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4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ey Fact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bout Dementia and Caregiv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 million+ diagnosed with Alzheimer’s disease or related disord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0% + persons &gt;85 years of age have mild cognitive impairment or demen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gt;50% of persons with dementia cared for at h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erage course of disease is 8 yea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nge from 4 to 20  ye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 of Main Treatment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mpared to controls ES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s upset with memory-related behaviors (subjective burd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s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received from family/friends (objective burd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s affect (enhanc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 of Treatment Interaction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in time spent in vigilance for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e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upset with disruptive behaviors for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pous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affect, management ability and mastery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Treatment or Interaction Effects for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 behavioral occurr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 level of ADL/IADL functi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te versus African American caregiv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mplications for Caregiver Research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x pi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cale analyses offer nuanced 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group analyses very impor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can describe what happens but not sure w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linical Implic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SP has positive effects in select domains of caregiver well-be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vironmental modification important role in supporting CG eff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arly intervention may enhance CR daily functio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omen and spouses benefit m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vironmental approach should be integrated into clinical practice with CG-CR dya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ealth Policy Supports OT Home Environmental Interven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care coverage now authorized for treatment of Alzheimer’s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ccupational therapy and physical therapy allow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ification to home environments allow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New York Tim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Vol. CLI, 200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Guidelines for Implementing ESP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serve each room of hom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e individual capabilities, family concerns and home environmental feature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volve family members and if possible the person with dementia in the evaluative and decision-making proc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oduce small, incremental changes to the home environmen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validation, reevaluate with caregiver what works/what doesn’t/make adjustments according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(continue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role play/demonstration to instruct in use of new strate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djust environmental strategies based on family feedback as to what works be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 family with information about the disease and how to obtain other environmental strategies in the fu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itlin, L. N., (2001).  Effectiveness of Home Environmental Interventions for Individuals with Dementia and Family Caregivers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Home Health Care Consulta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Provides Care to Persons with Dementia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aregivers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men (spouses and daughte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o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giving occurs across all racial, ethnic and socioeconomic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giving does not stop with nursing home plac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amily Caregivers: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Hidden Pati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T RISK F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pression (&gt;50%  caregivers are depress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bid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ncial lo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cial iso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reme fatigue, st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xiety, upset, feeling overwhelm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rt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Schulz, et al, 1995.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35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771-791;  Ory et al., 1999,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37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804-815  Schulz &amp; Beach, 1999,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JAMA, 282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2215-221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nical Trial Research with Family Caregiv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+ years of research substantiates negative consequences of caregiv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nical trials sh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Underutilization of serv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inimal to modest treatment benefit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Interventions not well-described/difficult to replicat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imes New Roman"/>
              </a:rPr>
              <a:t>Need for new models and in-home supportive serv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23:38:05Z</dcterms:created>
  <dc:creator>Laura Gitlin</dc:creator>
  <dc:description/>
  <dc:language>en-US</dc:language>
  <cp:lastModifiedBy>Laura Gitlin</cp:lastModifiedBy>
  <cp:lastPrinted>2001-11-09T20:17:03Z</cp:lastPrinted>
  <dcterms:modified xsi:type="dcterms:W3CDTF">2002-12-03T02:04:38Z</dcterms:modified>
  <cp:revision>338</cp:revision>
  <dc:subject/>
  <dc:title>The Philadelphia REACH Study Recruitment, Intervention, 6-month Outcomes</dc:title>
</cp:coreProperties>
</file>