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wmf" ContentType="image/x-wmf"/>
  <Override PartName="/ppt/media/image25.wmf" ContentType="image/x-wmf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C33-6D9D-419A-ACE0-C6894664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F3B-94A3-4BB7-96D3-80069A15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BF7-9D1B-454B-9979-F68D8BF6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3FE-30E3-4E03-879B-5A3D2B9B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BB91-8FB5-41DE-8C7B-3AB3541A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8B1E-121A-4A33-8CEB-660C0F2C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9A81-6E01-4FDA-A8AF-F42A8D7B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760-CFF4-4F7B-A994-58CE8223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069B-17FB-4A2C-8E8F-22345ECA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EAFE-D172-4B3D-A43E-60E31DA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159D-D013-4127-8C11-8D7BDF1E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F39-662D-46B7-B484-C1AA1F6F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74C9-9577-4476-AF1A-529F65C1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0008-50E5-466C-A91F-A8ED2F46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E71A-BA61-4D6D-8C8B-379B65C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B947-2CF8-4596-8BB8-B747757E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5881-7DA5-4CB2-8A04-E3697063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361-52ED-42BC-ADD8-D708B7C3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CD2-4562-4B63-B5F4-CC67A1CD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F42-F4C7-44E2-83B4-85134E8D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4F9-5E7A-4875-ABF8-58BF12F5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FC3-6946-4451-B095-01B70C6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94C-9B07-4B24-8534-2E1D9F2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C87-C648-4DB8-8CD8-BAE29380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8E00-24BD-4B50-A555-FF33D928C3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4FEF-A507-4BFA-8F95-30262F15B7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400" spc="-1" strike="noStrike">
                <a:solidFill>
                  <a:srgbClr val="ffcc66"/>
                </a:solidFill>
                <a:latin typeface="Times New Roman"/>
              </a:rPr>
              <a:t>Innovation in Occupational Therapy Practice </a:t>
            </a:r>
            <a:br>
              <a:rPr sz="3400"/>
            </a:br>
            <a:br>
              <a:rPr sz="3400"/>
            </a:b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Evidence of OT Effectiveness in Working with Family Caregivers of  Individuals with Dement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Results from the NIH REACH Initiativ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Laura N. Gitlin, Ph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rofessor, Department of Occupational Therapy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Director, Community and Homecare Research Division, Thomas Jefferson University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Times New Roman"/>
              </a:rPr>
              <a:t>Funded by NIA # U01 AG 01326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838080"/>
            <a:ext cx="2976480" cy="1399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resso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Care Recipient Behavi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Social Environm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Physical Environm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289548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Appraisals of Demands and Adaptive Capaci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05320"/>
            <a:ext cx="2209680" cy="368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erceived St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267080"/>
            <a:ext cx="2438640" cy="1191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gative Physiological, Affective, Behavioral Respon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5715000"/>
            <a:ext cx="2209680" cy="916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ncreased Risk for Mental/Physical Health Probl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143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PRIMARY TARGE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Environmental Strategies Targeting Care Recipient, and/or Social and Physical Environm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25146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SECONDARY  TARGE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Environmental Strategies Targeting Caregiver Cognitive Skills and Knowledg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1371600"/>
            <a:ext cx="0" cy="35812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75248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8600" y="4648320"/>
            <a:ext cx="83808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52280" y="1752480"/>
            <a:ext cx="0" cy="289584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343400" y="17524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28954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733920" y="13716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tress Health Process Mode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22860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2004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54864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33920" y="49528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6160" y="5410800"/>
            <a:ext cx="3748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chulz R (Ed) </a:t>
            </a:r>
            <a:r>
              <a:rPr b="0" i="1" lang="en-US" sz="18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Handbook on Dementi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Caregiving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, (pp. 33-56), NY: Springer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vironment as Treatment Modali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ed in competence-environmental press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olves modification to physical, task and social dimensions of environments (Barris et 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rpos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hieve balance between environmental demands (press) and person capabilities (competenci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duce environmental press to match person capabili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rease excess disab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V="1">
            <a:off x="1899720" y="4302360"/>
            <a:ext cx="1428480" cy="207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60520"/>
            <a:ext cx="0" cy="584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6400800"/>
            <a:ext cx="767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303120" y="1751040"/>
            <a:ext cx="48528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ETE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85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1440800">
            <a:off x="1039320" y="1061280"/>
            <a:ext cx="4546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gative affect &amp;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1544000">
            <a:off x="1447560" y="99036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ladaptive behavi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510920" y="914400"/>
            <a:ext cx="1384200" cy="548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770840" y="998640"/>
            <a:ext cx="1763640" cy="541944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64771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NVIRONMENTAL PR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1885400">
            <a:off x="2284560" y="213300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rgi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2094200">
            <a:off x="3125880" y="982800"/>
            <a:ext cx="423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ZONE OF MAXIMUM COMFO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0"/>
            <a:ext cx="563868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e-environmental Press Model – Lawton and Nahemow 197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2556800">
            <a:off x="3505320" y="220860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aptation le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191120" y="1523520"/>
            <a:ext cx="728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1447920"/>
            <a:ext cx="4952880" cy="495288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3494600">
            <a:off x="4683960" y="303120"/>
            <a:ext cx="42372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ZONE OF MAXIMUM PERFORMANCE POTENT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9144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POSTIVE AFFECT &amp; ADAPTIVE BEHAVIO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257800" y="304920"/>
            <a:ext cx="2635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666880" y="1447920"/>
            <a:ext cx="4953240" cy="4952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3597200">
            <a:off x="4419360" y="281628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rgi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3915200">
            <a:off x="5444640" y="3240360"/>
            <a:ext cx="4546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gative affect &amp;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3969200">
            <a:off x="5486040" y="3578760"/>
            <a:ext cx="45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ladaptive behavi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Times New Roman"/>
              </a:rPr>
              <a:t>For Persons with Dementia </a:t>
            </a:r>
            <a:br>
              <a:rPr sz="3800"/>
            </a:br>
            <a:r>
              <a:rPr b="0" i="1" lang="en-US" sz="3800" spc="-1" strike="noStrike">
                <a:solidFill>
                  <a:srgbClr val="ffcc66"/>
                </a:solidFill>
                <a:latin typeface="Times New Roman"/>
              </a:rPr>
              <a:t>Use Environmental Modifications To: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disori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way fin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port functionalit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activity engag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safe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imize behavioral disturbanc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Times New Roman"/>
              </a:rPr>
              <a:t>For Family Caregivers </a:t>
            </a:r>
            <a:br>
              <a:rPr sz="3800"/>
            </a:br>
            <a:r>
              <a:rPr b="0" i="1" lang="en-US" sz="3800" spc="-1" strike="noStrike">
                <a:solidFill>
                  <a:srgbClr val="ffcc66"/>
                </a:solidFill>
                <a:latin typeface="Times New Roman"/>
              </a:rPr>
              <a:t>Use Environmental Modifications To: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personal safe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hance ability to manage day to 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hance mast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str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need for assist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amount of time in hands-on superv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idence of Effectiveness of Environment Approac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itutional-based research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ecial Dementia Uni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duction of disruptive behavi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hancement of orientation, engag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-home descriptive studi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mily CGs modify homes for safety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milies lack information about equipment and environmental strateg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lkins, (1989).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esign for dementia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; Pynoos &amp; Ohta (1991).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Occupational Therapy and Physical Therapy in Geriatrics, 9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, 83-92;  Gitlin &amp; Corcoran, (1996).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Technology and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isability, 2, 112-21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idence of Effectiveness of Environment Approac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3 month in-home OT environmental intervention (NIA) with 202 caregiver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ows decline in CR’s IADL and ADL dependenc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hances CG self-efficac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s upset with ADL dependence and behavior disturba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men benefit more than men caregi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Gitlin, et al.,  (2001).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The Gerontologist, 41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4-14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Gitlin, et al., (1999).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Family Relations, 48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363-372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ME ENVIRONMENTAL SKILL-BUILDING PROTGRAM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(ESP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H REACH Multi-site 6 year initi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 sites each testing a different interven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ila site – ESP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t on previous dementia stu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eater intensity, more systematic, installation of equi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ined broader range of outcomes and validation of previous find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66760"/>
            <a:ext cx="8458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udy Design and Assessment Interva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905120"/>
          <a:ext cx="88390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8390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952880" y="4114800"/>
            <a:ext cx="83844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334120"/>
            <a:ext cx="8380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6248520"/>
            <a:ext cx="8380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aseline Characteristics of Sample (N = 255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4.5% fem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.2% Wh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.8% African Americ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%  Ot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8.8% Spou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1.2% Non spou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search Team Memb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Co-investigato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ry Corcoran, Ph.D., OTR/L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usan Klein, MS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Project Manag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araine Winter, Ph.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andy Schinfeld, M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Data management/analy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rie Dennis, Ph.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ry Barnet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Walter Hauck, Ph.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Interview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nnemarie Grego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ulie Liebman, 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Interventionis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eri Shaw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racey Vause Earland, MS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usan Eckhardt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inda Levy, MS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oz Lipsett, MS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m Kearney, MS, OTR/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55 Caregivers enroll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0 had 6-month data availabl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89 experimental, 101 contr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% rate of attr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haracteristics</a:t>
            </a: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 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haracteristi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MEAN (S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G Age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61.01 (14.3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G Education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2.23 (2.6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ears Caregiv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4.24 (3.77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 MM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2.30 (7.05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G depressio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.90 (11.6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1523880"/>
            <a:ext cx="7848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vironmental Skill-building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gram (ESP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nvironmental Skill-building Program (ESP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CTIVE PH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6 Months -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 home visits &amp; 1 tele-contac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ducation about role of environment and dement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kills in problem-solving, simplifying the environment to address 11 potential problem ar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chnical support (e.g., adaptive devices and training in us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vention Protoc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s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home visi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assessment; education about dementia, identification of problem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home visi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problem solving about target problem (antecedents, behavior, consequenc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3-5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home and telephone 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troduce, practice, modify, refine strategies for each target problem; installation of equipment, adaptive devi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home visit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review strategies, generalize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leven Target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are Recipie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ile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es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tastrophic Re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ande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fe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isure/IAD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aregiver-centered concer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ercent of Caregivers Who Addressed Problem Are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thing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3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ile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3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ess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14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13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cation    37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obility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48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304812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tastrophic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24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ac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nderi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24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afet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44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isure/IAD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45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aregi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ncern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69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hysical Modifications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o the H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all equipment and assistive de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rrange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bel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lor contrast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ce objects in sequence of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Corcoran, M., &amp; Gitlin, L.N. (1991, Fall/Winter).  Environmental influences on behavior of the elderly with dementia: Principles for intervention in the home.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imes New Roman"/>
              </a:rPr>
              <a:t>Occupational and Physical Therapy in Geriatrics, 9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3&amp;4), 5-21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62520" y="990720"/>
            <a:ext cx="5181480" cy="5486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61080" y="1390680"/>
            <a:ext cx="37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Bathroom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Equipment</a:t>
            </a: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040" y="2276640"/>
            <a:ext cx="28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ub ben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oilet ra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rab b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Hand held show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ong handl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pon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ictur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-57240"/>
            <a:ext cx="43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4648320" cy="4876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98920" y="123840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ed r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608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45720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Overview of Pres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ick facts about family caregi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vironment as treatment moda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IH REACH initi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vironmental Skill-building pro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 outco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nical guidelin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lusion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5715000" cy="6477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28600" y="1066680"/>
            <a:ext cx="25146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Clut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ori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gi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creased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6440" y="1523880"/>
            <a:ext cx="31874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clutter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ow dem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ppropriat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f stim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mfortable an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lm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3657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creased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143000"/>
            <a:ext cx="39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aregiver Concer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76480"/>
            <a:ext cx="28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R confu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2819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appropriate dr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22240" y="1017720"/>
            <a:ext cx="370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Strategi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olor contra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bject 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revious ha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Outcome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ncreased independ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27160" y="14292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520" y="1447920"/>
            <a:ext cx="31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isorienting cue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337824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d duct tape for color contra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094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hite commode on white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05320" y="914040"/>
            <a:ext cx="4114800" cy="685800"/>
          </a:xfrm>
          <a:prstGeom prst="line">
            <a:avLst/>
          </a:prstGeom>
          <a:ln w="1260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962520"/>
            <a:ext cx="2666880" cy="761760"/>
          </a:xfrm>
          <a:prstGeom prst="line">
            <a:avLst/>
          </a:prstGeom>
          <a:ln w="1260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27160" y="-8568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724280" y="30492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133720"/>
            <a:ext cx="42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isual Cue to prevent eg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410080" cy="5333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80880" y="762120"/>
            <a:ext cx="2637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ase Scenar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tract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or ea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ear of malnutr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5640" y="3505320"/>
            <a:ext cx="3252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First Set of Strateg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Red placema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White pl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ne food i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ere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po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13360" y="142920"/>
            <a:ext cx="333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Physical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97960" y="806400"/>
            <a:ext cx="438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Use of turb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ulturally appropria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eservation of ro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educe distra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ifications to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ask Dimension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-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short verbal/written instru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 Provide verbal/tactile cue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ep needed items in easy rea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plify activ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 Plan a routin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 Instruct CR through demonst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Gitlin, et al., 2002, Strategies Used by Families to Simplify Tasks for Individuals with Alzheimer's Disease and Related Disorders: Psychometric Analysis of the Task Management Strategy Index (TMSI). 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imes New Roman"/>
              </a:rPr>
              <a:t>The Gerontolog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3962520" cy="5486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3520" y="1905120"/>
            <a:ext cx="3074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Strate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Tactile cue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Short 1 to 2 step comm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1040" y="22860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ask Enviro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4800600" cy="6248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22860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04920"/>
            <a:ext cx="35812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Task Enviro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Caregiver complaint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G Back pa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Unsure how to involve father in dres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114800"/>
            <a:ext cx="2743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Strategi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Verbal cue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ay out clothing in 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roper body mechan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4038480" cy="5486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0880" y="3276720"/>
            <a:ext cx="363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Strateg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epetitive mo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implified tas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et up objec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eserved ro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8720" y="685800"/>
            <a:ext cx="349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Case Scenari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G no time for sel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R bored, agita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09480" y="-936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Task Environm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3504960" cy="5486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5486400" cy="4267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585440" y="21924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Task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4960" y="1778040"/>
            <a:ext cx="302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ontrol c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ngagement of C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Rail for bal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ification to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cial Dimension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Help coordinate care among social net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Instruct in assertiveness and communication ski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CG develop consistency in interactions with C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CG involve others in daily care provi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173840" y="49860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Social Dimen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752480"/>
            <a:ext cx="33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ducate childr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elp with inte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s ESP Effectiv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o Benefits from ESP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Men vs. wom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Spouses vs. non-spou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rican American  vs. Wh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bjective Caregiver Burde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oes ESP reduce amount of help needed for ADL care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any days in a week have other family members or friends (not being paid) provided help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elp with ADL Activit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77880" y="1905120"/>
          <a:ext cx="792468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905120"/>
                    <a:ext cx="79246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11240" y="6216480"/>
            <a:ext cx="78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(Geometric) Days of  Help with ADL Activities by Treatment Condition 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26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bjective Caregiver Burde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oes ESP reduce amount of time providing care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how many hours a day do you estimate that you are actually doing things for CR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e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2 year old wife caring for 75 year old husband with moderate stage dementi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usband verbally abus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kes up several times at n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iculty with dressing and bathing but resists c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ies to leave ho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spicious of visi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s had several fa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tant supervis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egiver has osteoporosis and high blood press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egiver providing care for 8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23840" y="382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otal Hours Doing Things for the CR</a:t>
            </a:r>
            <a:br>
              <a:rPr sz="3600"/>
            </a:b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Gender Effec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41440" y="1192320"/>
          <a:ext cx="81277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92320"/>
                    <a:ext cx="81277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51520" y="6216480"/>
            <a:ext cx="77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(Geometric) Hours Doing things by Treatment Condition and Gender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41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jective Caregiver Burden  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oes ESP reduce caregiver upset with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mory-related behavior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ruptive behavi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- 0 (Not at all) to 4 (Extremel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f91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ow score indicate less upse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mory-related Behavior Ups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77880" y="1908000"/>
          <a:ext cx="819468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908000"/>
                    <a:ext cx="819468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72000" y="6216480"/>
            <a:ext cx="73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Level of Memory-related Behavior Upset by Treatment Condition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27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sruptive Behavior Upset: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tionship Effe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77880" y="1905120"/>
          <a:ext cx="826308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905120"/>
                    <a:ext cx="826308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9360" y="6216480"/>
            <a:ext cx="90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Level of Disruptive Behavior Upset by Treatment Condition and Relationship  to CR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18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hancement of Well-be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oes ESP enhance caregiver affect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past month have your feelings of being (angry) gotten much worse, somewhat worse, stayed the same, improve somewhat, improved a lot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itlin, et al (submitted) Caregiver appraisals of we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ing:  The Perceived Change Ind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erceived Change in Affe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812880" y="1905120"/>
          <a:ext cx="75866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905120"/>
                    <a:ext cx="75866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04280" y="6216480"/>
            <a:ext cx="61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Level of Perceived Change by Treatment Condition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38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nhancement of Skill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oes ESP enhance caregiver skills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past month have your ability to manage day to day caregiving gotten much worse, somewhat worse, stayed the same, improve somewhat, improved a lot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493560" y="1876320"/>
          <a:ext cx="8290080" cy="44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876320"/>
                    <a:ext cx="8290080" cy="44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947880" y="6248520"/>
            <a:ext cx="77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reatment  by Gender Interaction Effects on Enhancement Variables (P=.043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4840" y="380520"/>
            <a:ext cx="798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3300" spc="-1" strike="noStrike">
                <a:solidFill>
                  <a:srgbClr val="ffcc66"/>
                </a:solidFill>
                <a:latin typeface="Times New Roman"/>
              </a:rPr>
              <a:t>Ability to Manage Day to Day</a:t>
            </a:r>
            <a:br>
              <a:rPr sz="3300"/>
            </a:br>
            <a:r>
              <a:rPr b="0" i="1" lang="en-US" sz="3300" spc="-1" strike="noStrike">
                <a:solidFill>
                  <a:srgbClr val="ffcc66"/>
                </a:solidFill>
                <a:latin typeface="Times New Roman"/>
              </a:rPr>
              <a:t>Gender Effects</a:t>
            </a:r>
            <a:endParaRPr b="0" i="1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hanced Maste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oes ESP enhance caregiver’s sense of personal mastery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.g.,  “How often do you feel you should be doing more for CR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Lawton, Kleban, Moss, Rovine, &amp; Glicksman (1989) Measuring caregiver appraisal.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imes New Roman"/>
              </a:rPr>
              <a:t>Journal of Gerontology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, P61-P7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stery: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nder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77880" y="1905120"/>
          <a:ext cx="8128080" cy="42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905120"/>
                    <a:ext cx="812808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368280" y="6216480"/>
            <a:ext cx="63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an Level of Mastery by Treatment Condition and Gender 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p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=.046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ey Facts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bout Dementia and Caregiv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 million+ diagnosed with Alzheimer’s disease or related disorde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0% + persons &gt;85 years of age have mild cognitive impairment or dement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gt;50% of persons with dementia cared for at h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erage course of disease is 8 year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nge from 4 to 20  yea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mmary of Main Treatment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ompared to controls ES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es upset with memory-related behaviors (subjective burd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s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received from family/friends (objective burd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roves affect (enhance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mmary of Treatment Interaction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rease in time spent in vigilance for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me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receive E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d upset with disruptive behaviors for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pous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ho receive E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d affect, management ability and mastery fo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ome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ho receive E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o Treatment or Interaction Effects for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 behavioral occurre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 level of ADL/IADL functio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te versus African American caregiv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 Wha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mplications for Caregiver Research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lex pi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cale analyses offer nuanced understan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group analyses very import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can describe what happens but not sure w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 Wha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linical Implic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SP has positive effects in select domains of caregiver well-be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nvironmental modification important role in supporting CG effo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arly intervention may enhance CR daily functio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Women and spouses benefit mo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nvironmental approach should be integrated into clinical practice with CG-CR dya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ealth Policy Supports OT Home Environmental Interven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care coverage now authorized for treatment of Alzheimer’s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ccupational therapy and physical therapy allow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ification to home environments allow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New York Tim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Vol. CLI, 200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nical Guidelines for Implementing ESP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bserve each room of hom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aluate individual capabilities, family concerns and home environmental feature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volve family members and if possible the person with dementia in the evaluative and decision-making proces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roduce small, incremental changes to the home environmen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validation, reevaluate with caregiver what works/what doesn’t/make adjustments according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uidelines (continue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role play/demonstration to instruct in use of new strate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adjust environmental strategies based on family feedback as to what works be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vide family with information about the disease and how to obtain other environmental strategies in the fu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itlin, L. N., (2001).  Effectiveness of Home Environmental Interventions for Individuals with Dementia and Family Caregivers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</a:rPr>
              <a:t>Home Health Care Consulta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o Provides Care to Persons with Dementia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caregivers ar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men (spouses and daughte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ou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egiving occurs across all racial, ethnic and socioeconomic grou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egiving does not stop with nursing home plac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amily Caregivers: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Hidden Pati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T RISK FO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pression (&gt;50%  caregivers are depresse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rbid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ncial lo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cial isol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reme fatigue, st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xiety, upset, feeling overwhelm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rta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Schulz, et al, 1995.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The Gerontologist, 35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771-791;  Ory et al., 1999,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The Gerontologist, 37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804-815  Schulz &amp; Beach, 1999,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JAMA, 282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2215-221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nical Trial Research with Family Caregiv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+ years of research substantiates negative consequences of caregiv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nical trials sh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Underutilization of servic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Minimal to modest treatment benefit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Interventions not well-described/difficult to replicat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33"/>
                </a:solidFill>
                <a:latin typeface="Times New Roman"/>
              </a:rPr>
              <a:t>Need for new models and in-home supportive servic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23:38:05Z</dcterms:created>
  <dc:creator>Laura Gitlin</dc:creator>
  <dc:description/>
  <dc:language>en-US</dc:language>
  <cp:lastModifiedBy>Laura Gitlin</cp:lastModifiedBy>
  <cp:lastPrinted>2001-11-09T20:17:03Z</cp:lastPrinted>
  <dcterms:modified xsi:type="dcterms:W3CDTF">2002-12-03T02:04:38Z</dcterms:modified>
  <cp:revision>338</cp:revision>
  <dc:subject/>
  <dc:title>The Philadelphia REACH Study Recruitment, Intervention, 6-month Outcomes</dc:title>
</cp:coreProperties>
</file>