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899-B1BD-4737-BFF4-77AD1F8D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3EC-214F-46F7-AD0B-C419FF01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F4F-6127-4A7B-B5F0-5D9ED871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347-1572-466A-B762-1B689B36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62D3-3AFE-4D5C-B22F-D996BE3D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263C-B2CF-4D81-8A5D-7BF4D763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4277-91F0-4B0F-A089-7BA4ED3E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8189-3734-4762-AAA7-6B07F282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A48F-A546-48E2-A9F4-DC6C5F8C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7EDB-D6C2-4F9C-A9D5-A28E7836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3B73-141D-4394-91C3-66A89B7E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4B0-FA28-4EFC-85B3-6FDB26D8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C328-6D0A-41DF-885F-C337632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8F60-E875-4C5A-A60F-1989C9B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41D6-F0BE-4561-BBC5-A822BD48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54A6-CD57-43D5-B82D-241FFF72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6A2F-8D33-4F89-BF4C-2D18C155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C73-539B-43D5-8123-DE850E01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A41-4935-4281-BE32-6E2816C6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0BF-76C2-4C79-8EF6-C7B14EA1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5EE-3040-4BD7-BFD1-0E27F6DF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59A-75FE-4BA2-B6F0-F0565BE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EB5-CCCB-40C6-8EEC-752B4F5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816-6F4A-44F2-80BD-1E67459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1F14-B51C-47AE-BFBE-59BAE6DD2D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5A54-94C4-45F6-B6E1-703020F924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regiver Strategy Use to Contend with Cognitive and Functional Decline in Persons with Dement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ura N. Gitlin, Marie P.Dennis, Walter W. Hauck, Laraine Winter, Sandy Schinfel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ty and Homecare Research Division,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omas Jefferson University, Philadelphia, P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Funded by NIA # U01 AG 01326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ia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mental Assistan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#days family/friends help with CR AD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# formal services used (up to 2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otional Social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ocia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ocial support (people to confide 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otional Co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116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7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 tried to arrange my CR’s environment to safeguard him/her against causing problem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 tried to divert my CR’s attention when he/she began to feel upse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criticized or scolded CR to try to prompt better behavior with him/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threatened CR with undesirable consequences if he/she did not coope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yelled at C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format is a 5-point Likert scale with measurements ranging from 1 (never) to 5 (alway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inrichsen, G. A., &amp; Niederehe, G.  (1994).  Dementia management strategies and adjustments of family members of older patients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The Gerontologist 34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(1), 95-1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iladelphia REACH Si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pl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 = 255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5% = Fem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% = W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% = African Ameri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1% = Non-spo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CG Age = 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erage of 4 years careg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Education = 12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 MMSE = 12.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ADL = 4.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gnitive Status - MM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core Group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N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1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-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-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ley et al., (Aug. 1994)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eminars in Speech and Langu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2374920"/>
          <a:ext cx="403848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4920"/>
                    <a:ext cx="40384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0" y="0"/>
          <a:ext cx="9296280" cy="697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296280" cy="697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0"/>
          <a:ext cx="85345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34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arch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trategies do caregivers use to contend with cognitive decline and ADL dependence of persons with dement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caregiver use of environmental strategies (physical, task, social and emotional) differ for persons at different cognitive and dependence lev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:  Cognitive Dec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uttering (p = .008), task simplification (p = .001), and doing things for CR (p = .028) used more with low MMSE groups.*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tatistically significant differences among MMSE groups as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 assistance (informal or formal help receiv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 coping (Social network or social suppo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 of Adaptations to physical enviro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of emotional coping (positive and negative strateg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Kruskal Wallis 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DL FUNCTIONAL DEPENDE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core Group                         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vi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ttle physical hel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ate physical hel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2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ly physically 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8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itlin, L. N., Roth, D., Burgio, L., Loewenstein, D. A., Winter, L. Nichols, L., Argüelles, S., Corcoran, M., Burns, R., &amp; Martindale, J. (under review). Assessment of dependence in individuals with Alzheimer's disease and dependence-associated burden: Psychometric evaluation of a new measure for use with caregiver–care recipient dya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0"/>
          <a:ext cx="8610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1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ummary: ADL Depen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Environ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aptations (p = .000) and decluttering (p= .000) greater among high dependence group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Environm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sk simplification (p = .000), time on duty (p = .008), and doing things (p = .000) greater in high dependence group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al Environment (Assistance and Coping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statistically significant difference among dependence groups as to use of formal and informal social resource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difference among dependence groups as to emotional support rece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otional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re positive strategies used in high dependence groups (p = .00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difference among dependence groups as to use of negative strategie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and task environment are modified  with disea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al environment remains relatively stable across MMSE and dependence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egivers do not adjust social environment with disease prog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G may benefit from interventions that help strengthen instrumental and emotional social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givers increase positive emotional coping responses but may need help eliminating ineffective (negative)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y Ratio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disease progression, family caregiver involvement in day-to-day care increas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givers at increased risk of social isolation and emotional stra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tle known about specific strategies   caregivers use with disease pro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le of physical and social environment in providing care is uncl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amework for Understanding Home Environment and Strategy 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 as 4 interrelated concentric circles/lay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arris et al, 198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al hierarchy which influences decisions about interactions and performance outc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200400"/>
            <a:ext cx="1066680" cy="8380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895480"/>
            <a:ext cx="1828800" cy="1447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666880"/>
            <a:ext cx="2743200" cy="1905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209680"/>
            <a:ext cx="3581280" cy="2819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486400" y="3581280"/>
            <a:ext cx="8380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18760" y="5867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5867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933960" y="4419720"/>
            <a:ext cx="759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1522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38200" y="58672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vironmental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re = objec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terials/artifacts of daily lif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activities of play, work, self-care which determine use of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ocial groups/organiz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delineate roles, relationships between roles and essential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ul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beliefs that tie together and govern action of persons; Emotional cl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rris, Kielhofner, Levine &amp; Neville  (1985). Occupation as Interaction with the Environment, in A Model of Human Occupation, Ed. Kielhofner and Burke, p. 42-6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of Environmental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ayer has special attributes that contribute to the system of p-e inter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ou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ching interests and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ching compet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dification of Environmental Layers in Dementia Car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 Recipi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 disorientation/way finding in C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unctionality of C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activity engagement in C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safe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behavioral disturbances of C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giv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 self-effi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 constant vigilance/hands-on ass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 daily st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ysical (Object Layer)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of # of adaptations throughout  home (42 possible modification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Assistive devices (grab bars, stair glide, commode, transfer boar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 Structural modification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 Removal of furni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 Rearrangement of furni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Clutter in 5 Rooms of Home (scores range from 5 to 20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= very clutt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= somewhat clutt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= no clut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Gitlin, L. N., Schinfeld, S., Winter, L., Corcoran, M., &amp; Hauck, W. (2002).  Evaluating home environments of person with dementia: Interrater reliability and validity of the home environmental assessment protocol (HEAP).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Disability and Rehabilitation, 24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59-71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 simplification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 item Task Management Strateg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strategies (1= never to 5 = alway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Use short instruction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Place items out in order of u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Introduce activity that uses same mo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 Oversight - Vigilan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on duty (hou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doing things (hou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itlin, L. N. Winter, L., Dennis, M., Corcoran, M, Schinfeld, S., &amp; Hauck, W. (2002).  Strategies used by families to simplify tasks for individuals with Alzheimer's disease and related disorders: Psychometric analysis of the task management strategy index (TMSI). 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The Gerontologist, 4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61-69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honey, D. F., Jones, R. N., Coon, D., Mendelsohn, A. B., Gitlin, L. N., &amp; Ory, M.  (2003). "The Caregiver Vigilance Scale: Application and validation in the Resources for Enhancing Alzheimer’s Caregiver (REACH) project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American Journal of Alzheimer’s Disease and other Dementias, 18,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39-48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16:41:28Z</dcterms:created>
  <dc:creator>mdennis</dc:creator>
  <dc:description/>
  <dc:language>en-US</dc:language>
  <cp:lastModifiedBy>Laura N. Gitlin</cp:lastModifiedBy>
  <dcterms:modified xsi:type="dcterms:W3CDTF">2003-11-19T01:55:53Z</dcterms:modified>
  <cp:revision>120</cp:revision>
  <dc:subject/>
  <dc:title>Slide 1</dc:title>
</cp:coreProperties>
</file>