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EEC-FCC8-47F7-962A-655BF8D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65C-7A54-4C58-A3E5-5C71C06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411-7138-4A3C-91D9-F9E5AA2A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EF3-08DF-450D-AF6F-E5A0FEA0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2C05-F1DA-4CCD-9C52-328BCAA6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5FA-86BB-45BD-BB2F-0C96E7E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DFFA-B3A7-47A3-9118-3F95D6FC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CE0-0B64-49AA-B609-BBD472D1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1B55-66FD-48F4-A144-B13C49BA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990-91FB-48DD-B244-C9CF9587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C8D6-A06A-42AC-85A4-AAD1A68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E5E-06C9-4322-A272-73052EE2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60DD-5D54-44AC-A618-FD527F10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E3CF-9B6B-40D8-B984-AD067B8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EA9-30FB-4FE3-A193-709E13E6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DC0-A128-4006-9849-30F7E6CD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D976-A696-4EA3-9B02-BE708613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3CA-7D0C-4BE2-9269-DEB4A942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11E-B84C-4A66-931C-13673C9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10F-28A7-41F0-BABA-E75B7AB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44A-1445-40F6-9704-3FDD6A0D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6D1-F025-4591-A0F9-2A43934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6A5-4F60-49C6-BAD4-65B6EA4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A6C-28C5-48BF-AE60-76703E5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07A9-203C-4ED5-82CC-790C0DEA19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33A3-22C9-4819-B8CF-1999C4076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847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rovider-Caregiver Interactions: Evaluation and Use of the Therapeutic Relationship Index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or Caregiver Intervention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on Kyung Chee, Marie P. Dennis, Laura N. Git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ty and Homecare Research 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mas Jefferson University, Philadelph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er Presented at the Annual Meeting of the Gerontolog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iety of America, November 23,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Funded by NIA R01 AG10947 and NIA/NINR U01 AG132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tudy Protoc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Sample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90-min visits over 3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Sample 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: Five 90-min visits, one phone contact over 6 month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enance: One 90-visit, three phone contacts over 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Interventio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 up hom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ing difficult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viating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 documentation completed by interventionists within 48 hours following each visit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rapeutic Relationship Index (TRI)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 item, 5-point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cc"/>
                </a:solidFill>
                <a:uFillTx/>
                <a:latin typeface="Tahoma"/>
              </a:rPr>
              <a:t>Provider percep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ient-centered care, dementia caregiving, ethical considerations in careg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group discussions with occupational therap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scores = More collaborativ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Measures of Construct Valid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giver readiness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haska &amp; Velice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199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precontemp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contemp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action/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giver anxiety (ST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 recipient behavioral problems (RMBP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 recipient cognitive impairment (MM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 recipient functional dependence (A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cale Stru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Mod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 loadings ranged from .50 to .84 (all 14 ite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Open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Connecte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Tahoma"/>
              </a:rPr>
              <a:t>Information-Seek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241200"/>
          <a:ext cx="8140680" cy="775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1200"/>
                    <a:ext cx="8140680" cy="77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080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Rel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lly consistent: </a:t>
            </a:r>
            <a:r>
              <a:rPr b="0" lang="el-GR" sz="2800" spc="-1" strike="noStrike">
                <a:solidFill>
                  <a:srgbClr val="ff66cc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66cc"/>
                </a:solidFill>
                <a:latin typeface="Tahoma"/>
              </a:rPr>
              <a:t> = .7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Sample 2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ness: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.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ness: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-Seeking: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.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-month test-retest: Five visits (Sample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ed 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.78 to .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class correlations: Five visits (Sample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66cc"/>
                </a:solidFill>
                <a:latin typeface="Tahoma"/>
              </a:rPr>
              <a:t>α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 = 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7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struction Valid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index and subs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e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-See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ing-related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092240"/>
          <a:ext cx="838188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92240"/>
                    <a:ext cx="8381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Tahoma"/>
              </a:rPr>
              <a:t>Changes in TRI scores over time: </a:t>
            </a:r>
            <a:br>
              <a:rPr sz="3800"/>
            </a:br>
            <a:r>
              <a:rPr b="0" lang="en-US" sz="3800" spc="-1" strike="noStrike">
                <a:solidFill>
                  <a:srgbClr val="ffcc66"/>
                </a:solidFill>
                <a:latin typeface="Tahoma"/>
              </a:rPr>
              <a:t>Completers vs Dropouts</a:t>
            </a: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ed measures analysis with the Huyne-Fel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cc"/>
                </a:solidFill>
                <a:uFillTx/>
                <a:latin typeface="Tahoma"/>
              </a:rPr>
              <a:t>Significant inte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.95, 202.57) = 9.89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 .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rs showed improvements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42.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pouts showed a drop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38.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Objectives</a:t>
            </a: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ine psychometric properties of the Therapeutic Relationship Index (TR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ine utilities of the TRI for in-home caregiver behavioral interven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225360"/>
          <a:ext cx="9156600" cy="663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5360"/>
                    <a:ext cx="9156600" cy="66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84200" y="380880"/>
          <a:ext cx="84438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80880"/>
                    <a:ext cx="8443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ssociation of TRI scores to Caregiver Characteristic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er age, gender, race, income, education, length of caregiving, relationship to care recip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er characteristics were </a:t>
            </a:r>
            <a:r>
              <a:rPr b="0" lang="en-US" sz="3200" spc="-1" strike="noStrike" u="sng">
                <a:solidFill>
                  <a:srgbClr val="ff66cc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sociated with TRI s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.090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7, 110) = 1.546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.15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63600" y="455760"/>
          <a:ext cx="8367480" cy="37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55760"/>
                    <a:ext cx="836748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clusions and Implic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ack of an adequate measure to evaluate therapeutic relationships for home-based interven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4-item TRI is valid and internally consist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en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nected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formation-See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I is associated with readiness, anxiety, behavioral problems not with functional statu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of entire scale vs subscales: Therapeutic Relationships are complex and nuanc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onclusions and Implications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actors other than demographic profile influence the collaborative treatment proces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I is sensitive to detect improvement or decline in therapeutic relationships with caregivers among completers and dropou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development of strategies to enhance compliance and customize intervention to match caregiver nee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termine factors that contribute to poor collaboration and premature dropout from interven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ine relationships between TRI scores and treatment outco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Tahoma"/>
              </a:rPr>
              <a:t>Effective Caregiver Interventions: In-home Interventions vs Traditional Medical Setting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relationship with careg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ized approach/Custom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 of empower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d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ittelman et al, 1996; Pusey &amp; Richard 2001; Schulz et al, 2002; Clark et al, 1995; Gitlin &amp; Gwyther, 2003; Toth-Cohen et al, 200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ollaborative Treatment Approach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-Centered Care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itute of Medicine, 20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ve to patient values, p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health care decisions jointly with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association with complia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d health status/rol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d health services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isfaction with medical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olman &amp; Lorig, 2000; Stewart, 2001; Von Korff et al, 1997; Greenfeld et al, 1985; Lorig et al, 2001; Roter 2000; Stewart 200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pecific Ai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psychometric properties of the Therapeutic Relationship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changes over time and differences in TRI scores between intervention completers vs dropo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relationship TRI scores and caregiver characteristi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Study Participants: Inclusion Criter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n from randomized clinical tri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ruited from Philadelphia Corporation on Aging, memory clinics, social services, media annou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 years of age or 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caregiver of persons with a diagnosis of ADRD or MMSE &lt;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with care recip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ciencies in 1+ AD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ciencies in 2+ IAD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tudy Participant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66cc"/>
                </a:solidFill>
                <a:latin typeface="Tahoma"/>
              </a:rPr>
              <a:t>Sample 1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: Dementia Management Study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66cc"/>
                </a:solidFill>
                <a:latin typeface="Tahoma"/>
              </a:rPr>
              <a:t>Sample 2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: REACH I (Resources for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Enhancing Alzheimer’s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aregiver Health) at the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Philadelphia sit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Skill-building Progra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S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itlin et al, 2001; Gitlin et al, 2003; Wisniewski et al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tudy Participa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ahoma"/>
              </a:rPr>
              <a:t>Sample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99 of 100 intervention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ahoma"/>
              </a:rPr>
              <a:t>Sample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118 of 129 intervention grou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did not receive E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7 dropouts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5 visi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usal, Bereavement, 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statistical or large differences between dropouts (n=27) vs completers (n=9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320760"/>
          <a:ext cx="838224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760"/>
                    <a:ext cx="838224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12:16Z</dcterms:created>
  <dc:creator>ychee</dc:creator>
  <dc:description/>
  <dc:language>en-US</dc:language>
  <cp:lastModifiedBy>ychee</cp:lastModifiedBy>
  <dcterms:modified xsi:type="dcterms:W3CDTF">2004-08-25T14:44:28Z</dcterms:modified>
  <cp:revision>58</cp:revision>
  <dc:subject/>
  <dc:title>Provider-Caregiver Interactions: Evaluation and Use of </dc:title>
</cp:coreProperties>
</file>