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02B9-449D-4181-8036-073FDEC4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497-08EB-4EFE-BEEF-7832453B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7CB-9AA4-4856-ACFE-0C01F0F0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728-68DE-4DD4-B88B-0A1DAEA7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B3D5-513C-42C3-B900-EC596865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0661-D75C-4549-9EA7-459A045E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A310-66C1-4EC6-A91A-D4FE1DB5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5746-07CF-44FC-A1EF-E0EE5FB6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B0A5-F292-4976-9911-059D875A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8A72-E6DC-4F1C-929C-72877F0F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49C1-0F9F-49BD-80F5-9C94C01C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4577-2639-4CDE-853E-C7BF65D2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8662-79BC-4C39-8930-3B190B91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8232-CB20-4797-B1FC-E1FBB210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5641-558A-40F4-95FB-245C6394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E7D7-B5BF-4BC6-9D9E-42FBB971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AE17-7BE0-4F53-81FF-342FF2B1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A5A7-EA25-44B2-894F-2DB47C6A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8F8-6DA9-4035-A976-2CF5E4AF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E52E-71FF-43E3-898B-F1528257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C8D-BCF5-44A4-8F16-237B162C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552-8966-48E0-8468-AB9985CB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D41-80B8-4580-A523-6E9CFECD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610D-C75A-44C5-B7DE-0408DEF0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256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539640"/>
              <a:ext cx="7391160" cy="257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40"/>
                  </a:moveTo>
                  <a:arcTo wR="10800" hR="10800" stAng="10787275" swAng="10808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40"/>
                  </a:moveTo>
                  <a:arcTo wR="10800" hR="10800" stAng="10787275" swAng="10808483"/>
                </a:path>
              </a:pathLst>
            </a:custGeom>
            <a:solidFill>
              <a:srgbClr val="fcce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752480"/>
              <a:ext cx="9142560" cy="51040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752480"/>
              <a:ext cx="9142560" cy="228600"/>
            </a:xfrm>
            <a:prstGeom prst="rect">
              <a:avLst/>
            </a:prstGeom>
            <a:solidFill>
              <a:srgbClr val="fcc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856560" y="1752480"/>
              <a:ext cx="2286000" cy="228600"/>
            </a:xfrm>
            <a:prstGeom prst="rect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fccea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52480"/>
              <a:ext cx="2286000" cy="228600"/>
            </a:xfrm>
            <a:prstGeom prst="rect">
              <a:avLst/>
            </a:prstGeom>
            <a:gradFill rotWithShape="0">
              <a:gsLst>
                <a:gs pos="0">
                  <a:srgbClr val="fccea7"/>
                </a:gs>
                <a:gs pos="100000">
                  <a:srgbClr val="66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E1F4-974F-4364-B8E1-EACC3A377FE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0066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752480"/>
            <a:ext cx="9142560" cy="3114000"/>
            <a:chOff x="0" y="1752480"/>
            <a:chExt cx="9142560" cy="311400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1752480"/>
              <a:ext cx="914256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14400" y="2292480"/>
              <a:ext cx="7391160" cy="257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40"/>
                  </a:moveTo>
                  <a:arcTo wR="10800" hR="10800" stAng="10787275" swAng="10808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40"/>
                  </a:moveTo>
                  <a:arcTo wR="10800" hR="10800" stAng="10787275" swAng="10808483"/>
                </a:path>
              </a:pathLst>
            </a:custGeom>
            <a:solidFill>
              <a:srgbClr val="fcce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3505320"/>
              <a:ext cx="9142560" cy="228600"/>
              <a:chOff x="0" y="3505320"/>
              <a:chExt cx="9142560" cy="228600"/>
            </a:xfrm>
          </p:grpSpPr>
          <p:sp>
            <p:nvSpPr>
              <p:cNvPr id="52" name=""/>
              <p:cNvSpPr/>
              <p:nvPr/>
            </p:nvSpPr>
            <p:spPr>
              <a:xfrm>
                <a:off x="0" y="3505320"/>
                <a:ext cx="9142560" cy="228600"/>
              </a:xfrm>
              <a:prstGeom prst="rect">
                <a:avLst/>
              </a:prstGeom>
              <a:solidFill>
                <a:srgbClr val="fcce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6560" y="3505320"/>
                <a:ext cx="2286000" cy="228600"/>
              </a:xfrm>
              <a:prstGeom prst="rect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ccea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505320"/>
                <a:ext cx="2286000" cy="228600"/>
              </a:xfrm>
              <a:prstGeom prst="rect">
                <a:avLst/>
              </a:prstGeom>
              <a:gradFill rotWithShape="0">
                <a:gsLst>
                  <a:gs pos="0">
                    <a:srgbClr val="fccea7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9325-1EFC-4005-BAFB-EF5EDDA3C53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mailto:tracey.vause-earland@jefferson.edu" TargetMode="External"/><Relationship Id="rId2" Type="http://schemas.openxmlformats.org/officeDocument/2006/relationships/hyperlink" Target="mailto:adel.herge@jefferson.edu" TargetMode="External"/><Relationship Id="rId3" Type="http://schemas.openxmlformats.org/officeDocument/2006/relationships/hyperlink" Target="mailto:piersolc@philau.edu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0066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Abadi MT Condensed Light"/>
              </a:rPr>
              <a:t>New Directions in </a:t>
            </a:r>
            <a:br>
              <a:rPr sz="4400"/>
            </a:br>
            <a:r>
              <a:rPr b="0" lang="en-US" sz="4400" spc="-1" strike="noStrike">
                <a:solidFill>
                  <a:srgbClr val="330099"/>
                </a:solidFill>
                <a:latin typeface="Abadi MT Condensed Light"/>
              </a:rPr>
              <a:t>Dementia Care at Hom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2640" y="2209680"/>
            <a:ext cx="6553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Times New Roman"/>
              </a:rPr>
              <a:t>Tracey Vause-Earland, MS, OTR/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Times New Roman"/>
              </a:rPr>
              <a:t>E. Adel Herge, MS, OTR/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Times New Roman"/>
              </a:rPr>
              <a:t>Catherine Verrier Piersol, MS, OTR/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ontributing Authors: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Laura N. Gitlin, PhD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Janice Burke, PhD, OTR/L, FAOT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omas Jefferson Universit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Philadelphia, P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unded by the National Institute of Mental Health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(Grant #R21 MH069425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L. Gitlin, PhD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Principal Investigato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Significance of Approach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421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uropsychological tes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milies unaware of what their family member with dementia CAN DO at ho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Functional Consequences </a:t>
            </a:r>
            <a:br>
              <a:rPr sz="4400"/>
            </a:b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of Neurological Change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320040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Neuroscien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438280" y="3428640"/>
            <a:ext cx="99072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209680"/>
            <a:ext cx="2133720" cy="167652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Neurological &amp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Neuropsychologic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testin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(CAN NOT DO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3886200"/>
            <a:ext cx="2209680" cy="106668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Daily Functionin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3657600"/>
            <a:ext cx="1067040" cy="1295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05320" y="4952880"/>
            <a:ext cx="205740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Activity Testin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(CAN DO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505320"/>
            <a:ext cx="838080" cy="6094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486400" y="4572000"/>
            <a:ext cx="91440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3962520"/>
            <a:ext cx="304920" cy="990360"/>
          </a:xfrm>
          <a:prstGeom prst="upDownArrow">
            <a:avLst>
              <a:gd name="adj1" fmla="val 50000"/>
              <a:gd name="adj2" fmla="val 64658"/>
            </a:avLst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TAP Eligibility</a:t>
            </a:r>
            <a:br>
              <a:rPr sz="4400"/>
            </a:b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are Recipient Inclusion Criteria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glish spea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MSE&lt;24 or Physician’s diagno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ble to feed sel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ears bored; sad or depressed; anxious or worried; agitated or restl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aregiver Inclusion Criteria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glish Spea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ge 21 years or old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ves with care recipi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s to live in area 8 mon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s a telepho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dicates a willingness to learn new approach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s some level of assistance with at least one (1) ADL or three (3) IAD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9052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981080"/>
            <a:ext cx="6645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845280"/>
            <a:ext cx="71625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TAP Study Desig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9810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19810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19810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9810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2363040"/>
            <a:ext cx="1600200" cy="33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ruitment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2363040"/>
            <a:ext cx="1600200" cy="33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eening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2136600"/>
            <a:ext cx="1447920" cy="82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l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1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2205000"/>
            <a:ext cx="1981440" cy="511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omiza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= 60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3657600"/>
            <a:ext cx="0" cy="566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3505320"/>
            <a:ext cx="1938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810320"/>
            <a:ext cx="18288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-up Assess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15200" y="5724360"/>
            <a:ext cx="1600200" cy="366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4872240"/>
            <a:ext cx="2361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4 Month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Post Baseline (T2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624816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8 Months Post Baseline (T3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5181480"/>
            <a:ext cx="1600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6477120"/>
            <a:ext cx="3276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286080"/>
            <a:ext cx="1828800" cy="366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3286080"/>
            <a:ext cx="1600200" cy="366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2666880"/>
            <a:ext cx="0" cy="609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2666880"/>
            <a:ext cx="0" cy="609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7732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6333840"/>
            <a:ext cx="1600200" cy="366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4038480"/>
            <a:ext cx="15238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4572000"/>
            <a:ext cx="0" cy="3049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01000" y="3581280"/>
            <a:ext cx="0" cy="12193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8880" y="4810320"/>
            <a:ext cx="167652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-up Assess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Delivery Characteristic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ight contacts over 4-month peri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home visits (up to 1 ½ hour dura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llow-up telephone check-ins (20 minut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of different treatment modalitie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ducation materi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blem solv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le play, demonst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ive CG skills trai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ision of activity-related devices/materi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Intervention Design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hase I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ssessment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hase II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troduction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f  Activ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hase III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losur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1640" y="198072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regiv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re Recipi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munication Strateg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mplifying the Tas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mplifying the Environ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eneralization to other activi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TAP – Phase I </a:t>
            </a:r>
            <a:br>
              <a:rPr sz="4400"/>
            </a:b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 Assessment Proces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regiv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re Recipi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cial and physical environ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aregiver Assessment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TAP Clinical Interview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stablish rapport/obtain background inform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dentify daily routines, interests, and typical activities (past and present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ferences, care giving sty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pproach to Activity Engag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Pleasant  Event Surv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requency, Enjoyability, Opportunity to do activi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Pleasant Event Survey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8600" y="2133720"/>
          <a:ext cx="8686800" cy="3657600"/>
        </p:xfrm>
        <a:graphic>
          <a:graphicData uri="http://schemas.openxmlformats.org/drawingml/2006/table">
            <a:tbl>
              <a:tblPr/>
              <a:tblGrid>
                <a:gridCol w="1547640"/>
                <a:gridCol w="797040"/>
                <a:gridCol w="816120"/>
                <a:gridCol w="831600"/>
                <a:gridCol w="1143000"/>
                <a:gridCol w="1190880"/>
                <a:gridCol w="1495440"/>
                <a:gridCol w="86508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past month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NJOYABILIT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OPPORTUNIT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past month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CTIVITI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o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Few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ime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Ofte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njoy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ow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njoye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n th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as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Being outsid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itting outside, being in the country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0" y="513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6058080"/>
            <a:ext cx="876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Adaptation of “The Pleasant Events Schedule – AD” Linda Teri, PhD and Rebecca Logsdon, PhD,</a:t>
            </a:r>
            <a:br>
              <a:rPr sz="1600"/>
            </a:b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The Gerontologist, 31:1, 1991.</a:t>
            </a:r>
            <a:br>
              <a:rPr sz="1600"/>
            </a:b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32280" y="800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13080" y="3259080"/>
            <a:ext cx="184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articipants will be able t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tegrate recent evidence-based literature to identify specific strategies that facilitate activity engagement in persons with dement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dentify occupation-based strategies that help persons with dementia and their caregiver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gage in meaningful activities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anage troublesome behaviors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quality of life, and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omote participation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Allen’s Cognitive Levels to preserved capabilities and identify the approaches and cues needed to facilitate activity engagemen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aregiver Assessment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aregiver Strategy Checklist: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leted at session 1 and/or 2 &amp; final se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xample Strategie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Uses short phrases when instructing the CR (2 or 3 word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Shows CR what to do by demonst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Tries to ignore CR’s mistak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are Recipient Assessment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ortme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havior, Appearance, Communication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Compli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Adapted from the Severe Cognitive Impairment Profile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Guerry M. Peavy, Ph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mentia Rating Scale 2 (DRS-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5 subscales: Attention, Initiation/Perseveration,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struction, Conceptualization, &amp; Mem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attis, S., Jurica, P., Leitten, C. Dementia Rating Scale: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rofessional Manual. Lutz, FL: Psychological Assessment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Resourc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are Recipient Assessments</a:t>
            </a: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essing the Care recipient’s capabiliti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Allen Batt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identify a CR’s “Best Ability to Function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alyze the cognitive &amp; motor requirements of activities CR wants to 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ommend meaningful activities that maintain CR abilities &amp; reduce CG burde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ommend environmental set up of activities to facilitate CR participation &amp; maintain safet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ognitive Disability Theory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ed by Claudia Allen, MA, OTR, FAO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nction is “what people do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ntal energy is  “what people pay attention to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nctional capacity is “the ability to use mental energy to guide motor and speech performance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ognitive Disability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A restriction in voluntary motor action originating in the physical or chemical structures of the brain and producing observable limitations in routine task behavior. (Allen, 1985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Information Processing Model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2286000"/>
            <a:ext cx="2057400" cy="160020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CU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concret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abstrac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3124080"/>
            <a:ext cx="1600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350532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4495680"/>
            <a:ext cx="25146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Processing spe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individual differences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952880" y="3504960"/>
            <a:ext cx="0" cy="99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2666880"/>
            <a:ext cx="144792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Attention</a:t>
            </a: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biologic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312408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2590920"/>
            <a:ext cx="312444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Observable Behavi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activit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llen Cognitive Level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vel One - Automatic A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vel Two - Postural A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vel Three - Manual A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vel Four - Goal Directed Acti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vel Five - Independent Lear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vel Six - Planned A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llen Cognitive Level - Mode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O - bits of information from previous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2 - distinctive characteristics of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ime/place; easily overwhelm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4 - process all information of th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6 - orientation shifts up; information fr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xt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8 - add information from next level; un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integrate all inform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LEVEL 2    Postural Action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ble to overcome effect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f grav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t, stand, move, walk or pus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M and mov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justs body to stabilize 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es pleasure/displeas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LEVEL 3  Manual Action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 handles objects, repetitive a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ye-hand coordin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derstands concrete meaning of o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petitive actions—may not notice effect of action on o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ze, shape and col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quence of three a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ttends to objects within 12-18” visual fie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Project TAP</a:t>
            </a:r>
            <a:br>
              <a:rPr sz="4400"/>
            </a:br>
            <a:r>
              <a:rPr b="0" i="1" lang="en-US" sz="4400" spc="-1" strike="noStrike">
                <a:solidFill>
                  <a:srgbClr val="330099"/>
                </a:solidFill>
                <a:latin typeface="Times New Roman"/>
              </a:rPr>
              <a:t>Tailored Activities Program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me-based Occupational Therapy Intervention for persons with Dementia &amp; their Caregiv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ilt upon elements of Previous Dementia Caregiver Resear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mentia Management Study (NI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ject REACH (NI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ject ACT (NIA, NIN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LEVEL 4  Goal Directed Activity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ware of objects in plain sight; 24” visual fie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 begins to notice striking feat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ivities are important to pers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ognizes errors, compliant with dire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quests assist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miliar routines and struct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ognizes ownershi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derstands rules and nor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llen Battery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en Cognitive Level Screening Tes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utine Task Invento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en Diagnostic Modu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sory Stimulation Ki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llen Battery Tools in TAP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rge Allen Cognitive Level Scree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een to determine cognitiv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en Diagnostic Module (Placemat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ides volitional opportun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l world context of an activ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gages client regardless of previous roles/education/exposure to crafts/personal preferen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80240" y="2400480"/>
            <a:ext cx="3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162920" y="2057400"/>
            <a:ext cx="18288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ssessment through </a:t>
            </a:r>
            <a:br>
              <a:rPr sz="4400"/>
            </a:b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raft Analysi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3809880" cy="3268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495680" y="3505320"/>
            <a:ext cx="4648320" cy="3124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09480" y="6019920"/>
            <a:ext cx="18288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odel placema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523880" y="4952880"/>
            <a:ext cx="0" cy="6098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1981080"/>
            <a:ext cx="3962520" cy="198144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Qualitative Analysis of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Initi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lannin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Atten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Visual scannin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roblem identification and self-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orrec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MSE = 2 ; DRS = &lt;1% in all area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0" r="0" b="8803"/>
          <a:stretch/>
        </p:blipFill>
        <p:spPr>
          <a:xfrm>
            <a:off x="3886200" y="2438280"/>
            <a:ext cx="4834080" cy="3306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80880" y="5867280"/>
            <a:ext cx="83822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MSE=13; DRS - Attention = &gt;82%; Construction= 41-59%; Initiation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Concept, Memory = &lt;1%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3200400" cy="27464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838080" y="2286000"/>
            <a:ext cx="2057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odel place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9907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llen’s Cognitive Level 4.2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0" y="1066680"/>
          <a:ext cx="9144000" cy="5790960"/>
        </p:xfrm>
        <a:graphic>
          <a:graphicData uri="http://schemas.openxmlformats.org/drawingml/2006/table">
            <a:tbl>
              <a:tblPr/>
              <a:tblGrid>
                <a:gridCol w="590400"/>
                <a:gridCol w="870120"/>
                <a:gridCol w="1353960"/>
                <a:gridCol w="1217880"/>
                <a:gridCol w="730080"/>
                <a:gridCol w="790560"/>
                <a:gridCol w="706680"/>
                <a:gridCol w="768240"/>
                <a:gridCol w="793800"/>
                <a:gridCol w="753840"/>
                <a:gridCol w="568440"/>
              </a:tblGrid>
              <a:tr h="562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ase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G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erson with Dementi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ds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MS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Dementia Rating Scale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age adjusted scaled scores &amp; percentiles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ttentio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nt/Per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onst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oncept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mory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cor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6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9 y spous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1 yr Caucasian male accountant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Risperdo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xelo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amend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1-18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2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 y daughter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7 yr AA, Hispanic female, &lt; hs educatio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Risperdo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xelo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2-89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-59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1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0 y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pous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6 yr AA male,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ollege ed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Donepzi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mantin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-59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-59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01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57 y daughter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87 yr Caucasian femal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Remero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Zyprex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Exelo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41-59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01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47 y daughter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85 yr Caucasian male, &lt;hs ed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Risperdo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Trazadon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00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64 y daughter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93 yr Caucasian male, &lt; hs ed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Zoloft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Namend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00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68 y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wif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81 yr AA mal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Seroque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Namend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Exelo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838080" y="457200"/>
            <a:ext cx="7467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ASE EXAMPLES – NEUROPSYCHOLOGICAL TEST SCOR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How do these assessments inform/guide</a:t>
            </a:r>
            <a:br>
              <a:rPr sz="4000"/>
            </a:b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activity engagement?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ntify CR’s remaining abil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s appropriate and valued interventions based on cognitive ability &amp; interes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ludes &amp; validates caregiver’s ideas and prior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s the caregiver with information on what cues/strategies work best to facilitate engag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Developing a Collaborative Partnership:  Building Rapport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empathetic liste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ntify caregiver’s goal for interven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and respect caregiver’s langu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rite down CG’s existing strategies to validate his/her expert knowled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cilitate Caregiver’s Active Problem-solv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Understanding the </a:t>
            </a:r>
            <a:br>
              <a:rPr sz="4000"/>
            </a:b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Caregiver-Care Recipient Culture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Keep these questions in mind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constitutes appropriate care to this CG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ir level of understanding of Dementia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are the preferred approaches to coping/caring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meaning behind objects &amp; actions in their environmen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Phase II:  Introduction of Activity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view CR’s strengths and preserved capabil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roduce 3 activity prescrip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le play, demonstrate, practice, reinforce prescribed techniqu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 direct feedback; valid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-assess, problem-solve, with CG refine targeted 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Project REACH</a:t>
            </a:r>
            <a:br>
              <a:rPr sz="4000"/>
            </a:b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Environmental Skill-building Program (ESP)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standardized occupational therapy service that empowers caregivers to identify and resolve dementia management iss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kill-Build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vironmental Strateg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267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ase Example:  Terry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81 year old retired accountan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ther of 7 children.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ried over 60 years.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istory of vascular dementia (multiple stroke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nds day center 2x/wee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ves to sing, play Bridge with family, great sense of humor (comedian, life of the party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ssessment Result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MSE – 1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CLS – 3.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M – 3.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mentia Rating Sca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ttention: &lt;1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itiation/Perseveration: &lt;1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truction: 11-18 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ceptualization: &lt;1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mory: &lt;1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Terry’s Abilitie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Good hand skills –able to grasp, release, and throw o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ollows simple 1 step directions with additional cueing (pointing and short verbal cues work best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Good attention and tolerance up to 30 minutes with activities of intere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ble to distinguish between size, shape, and feel of o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ble to place objects in “a row” and “into and out” of contain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stains repetitive actions; needs some asst. to progress to next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Recommended Activity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Times New Roman"/>
              </a:rPr>
              <a:t>Sorting “EZ playing Cards”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Times New Roman"/>
              </a:rPr>
              <a:t>or Viewing &amp; Discussin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i="1" lang="en-US" sz="4000" spc="-1" strike="noStrike">
                <a:solidFill>
                  <a:srgbClr val="eaeaea"/>
                </a:solidFill>
                <a:latin typeface="Times New Roman"/>
              </a:rPr>
              <a:t>Reminiscence Cards”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aeaea"/>
                </a:solidFill>
                <a:uFillTx/>
                <a:latin typeface="Times New Roman"/>
              </a:rPr>
              <a:t>Activity Goal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rry will sort and manipulate playing cards or look at the vintage photographs for 15 minu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ctivity Prescription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978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99"/>
                </a:solidFill>
                <a:latin typeface="Times New Roman"/>
              </a:rPr>
              <a:t>Simplify the setting for the activit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uce clutter (remove items from work surface).  This will help your husband to focus on the task and eliminate confusion and distrac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ace cards directly in front of Terry, within 14-18” from ey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 up a comfortable, supportive seat for Terry to si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nimize auditory distractions (radio/TV)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 up appropriate ligh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ctivity Prescription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99"/>
                </a:solidFill>
                <a:latin typeface="Times New Roman"/>
              </a:rPr>
              <a:t>Simplify the Acti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ow sufficient time for Terry to engage in card activ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lax standard of performance (there is no right or wrong wa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 may need to present 1 vintage photo at a ti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cart sorting simple. Say, “Place the Red cards in this pile &amp; black cards in this pile”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ctivity Prescription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99"/>
                </a:solidFill>
                <a:latin typeface="Times New Roman"/>
              </a:rPr>
              <a:t>Enhance Terry’s particip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w on Terry’s long-term mem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card sorting, draw on Terry’s ability to perform repeti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ap into Terry’s interest in card play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lp Terry initiate and sequence – use a guiding touch and a simple comma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oose a time of day when he’s alert (after a nap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ctivity Prescription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99"/>
                </a:solidFill>
                <a:latin typeface="Times New Roman"/>
              </a:rPr>
              <a:t>Communicate Effective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encouragement-Praise Terry after completing the acti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short comman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Terry leaves the activity, use a calm voice and redirect him back, or wait 15 minutes and re-introduce the acti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aregiver </a:t>
            </a:r>
            <a:br>
              <a:rPr sz="4400"/>
            </a:b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Stress Reduction Technique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32740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99"/>
                </a:solidFill>
                <a:latin typeface="Times New Roman"/>
              </a:rPr>
              <a:t>Strategies for Y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y to relax; take a few deep brea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member, there is no right or wrong way to do the acti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el good about yourself – you are doing a great jo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ase Example: Anni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4 year old mother/grandmother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ves with her daughter and son-in-la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itially attended Day cen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d-stage dementia – difficulty eating, limited mobility, limited recogn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99"/>
                </a:solidFill>
                <a:latin typeface="Times New Roman"/>
              </a:rPr>
              <a:t>REACH Study (N= 255)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90720" y="1600200"/>
          <a:ext cx="71625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162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ssessment Result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MSE - 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CLS – 3.2 (good day!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M – unable to d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en’s Sensory Stimulation Kit – 3.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observed at Day cen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mentia Rating Scale – unable to do/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Annie’s Abilitie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reach, grasp and release o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llows along with hand over hand assist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eives pleasure and contentment from physical closeness (hugging, likes to hold your han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manipulate familiar objects-eating utensils and hairbrus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ble to see/identify primary colors and shap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Recommended Activity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46479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Activity Pillow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Manipulating/feeling various textures and fastenin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Activity Goal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nie will work with the activity pillow for 5 minutes (on and off- as she pleases) 2 times during the wee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Phase III:  Closure &amp; Generalization to new problem areas 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view/practice/validate strateg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dify strategies – problem solve with C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neralize for future challenges- need to downgrade/simplif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Altering activities </a:t>
            </a:r>
            <a:br>
              <a:rPr sz="4000"/>
            </a:b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as abilities change over time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Keep simplifying the activit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uce the number of materials used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uce the steps needed to complete an activ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mplify instructions—use touch and demonst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se passive activities (video, music, looking at photo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hange your expectations—Relax the rules—Focus on strength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26480" y="955080"/>
            <a:ext cx="7691040" cy="75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What do families need?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nowledge of the disease proc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alidation as a caregiv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ext-specific understanding/knowledge of capabilities of person with dement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kills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blem-solving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sk and environmental simplifi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lf-protec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bility to take care of self (preventive health, sleep, exercis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What do persons </a:t>
            </a:r>
            <a:br>
              <a:rPr sz="4000"/>
            </a:b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with dementia need?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nimization of behavioral disturban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assurance, security and safe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gagement in meaningful acti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pportunities for social interaction and occup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Quality of life throughout progression of the dis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Translational Research to Practice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lti-component in-home intervention design to prevent/reduce troublesome behavi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comprehensive service approach combining most effective strategies from previous CG resear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stablishing an occupational therapy dementia serv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aining Institu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Why Does Activity Work?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44193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y level of energy expenditure has physiological benefi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inimizes boredom and/or inappropriate environmental stimuli which trigger agitati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ps into capacities, occupation, and productivity, is self-fulfilling and linked to preservation of self-ident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685800"/>
            <a:ext cx="34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0099"/>
                </a:solidFill>
                <a:uFillTx/>
                <a:latin typeface="Times New Roman"/>
              </a:rPr>
              <a:t>Thank You!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99"/>
                </a:solidFill>
                <a:latin typeface="Times New Roman"/>
              </a:rPr>
              <a:t>Tracey Vause-Earland, MS, OTR/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1"/>
              </a:rPr>
              <a:t>tracey.vause-earland@jefferson.ed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99"/>
                </a:solidFill>
                <a:latin typeface="Times New Roman"/>
              </a:rPr>
              <a:t>E. Adel Herge, MS, OTR/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2"/>
              </a:rPr>
              <a:t>adel.herge@jefferson.ed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99"/>
                </a:solidFill>
                <a:latin typeface="Times New Roman"/>
              </a:rPr>
              <a:t>Catherine Verrier Piersol, MS, OTR/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3"/>
              </a:rPr>
              <a:t>piersolc@philau.ed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ww.jefferson.edu/jchp/carah/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Project ACT</a:t>
            </a:r>
            <a:br>
              <a:rPr sz="4000"/>
            </a:br>
            <a:r>
              <a:rPr b="0" i="1" lang="en-US" sz="4000" spc="-1" strike="noStrike">
                <a:solidFill>
                  <a:srgbClr val="330099"/>
                </a:solidFill>
                <a:latin typeface="Times New Roman"/>
              </a:rPr>
              <a:t>Advancing Caregiving Techniques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jectiv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duces caregiver upset with disruptive behavior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duces the frequency of care recipient disruptive behavior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terven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mple stress reduction techniqu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mmunication strategies (positive strategies, remove negative strategies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ask simplificatio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vironmental simplific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ctivity engage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Frameworks for </a:t>
            </a:r>
            <a:br>
              <a:rPr sz="4000"/>
            </a:b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Understanding Behaviors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74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-driven Behaviors (NDB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gressively Lowered Stress Threshold (PLST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tecedent-Behavior-Consequences (AB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iadic Model (person-environment-caregiver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Volicer and Hurley (2003).  </a:t>
            </a:r>
            <a:r>
              <a:rPr b="0" i="1" lang="en-US" sz="1600" spc="-1" strike="noStrike">
                <a:solidFill>
                  <a:srgbClr val="eaeaea"/>
                </a:solidFill>
                <a:latin typeface="Times New Roman"/>
              </a:rPr>
              <a:t>J. of Gerontology:  Medical Scienc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PROJECT TAP Goals</a:t>
            </a:r>
            <a:br>
              <a:rPr sz="4400"/>
            </a:br>
            <a:r>
              <a:rPr b="0" lang="en-US" sz="1600" spc="-1" strike="noStrike">
                <a:solidFill>
                  <a:srgbClr val="330099"/>
                </a:solidFill>
                <a:latin typeface="Times New Roman"/>
              </a:rPr>
              <a:t>PI: Laura Gitlin, PhD  NIMH  MH069425</a:t>
            </a:r>
            <a:endParaRPr b="0" lang="en-US" sz="1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velop standard, portable assessment approach to identify &amp; match preserved capabilities with activi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ridge neuropsychological testing with functional and activity analy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velop a portable, reproducible, targeted intervention designed to introduce meaningful activities to improve quality of life of persons with dementia, train caregiver (CG) in setting up activities and reduce CG burde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99"/>
                </a:solidFill>
                <a:latin typeface="Times New Roman"/>
              </a:rPr>
              <a:t>Why focus on activity engagement? </a:t>
            </a:r>
            <a:endParaRPr b="0" lang="en-US" sz="4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served capabilities are an overlooked aspect of dement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Ts are in a unique position to assess capabilities of care-recipients and then design activity programs tailored to their capabilities, without relying on impaired areas of cognit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3:55:35Z</dcterms:created>
  <dc:creator>Owner</dc:creator>
  <dc:description/>
  <dc:language>en-US</dc:language>
  <cp:lastModifiedBy>bsb104</cp:lastModifiedBy>
  <dcterms:modified xsi:type="dcterms:W3CDTF">2007-05-03T17:16:50Z</dcterms:modified>
  <cp:revision>67</cp:revision>
  <dc:subject/>
  <dc:title>Tailoring Activities for Dementia Care in the Home Environment</dc:title>
</cp:coreProperties>
</file>