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253-BEE5-4456-8BA7-90A4C030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D5B-21D3-4E3A-A51A-24228A0D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FCB-118D-41FC-9B78-7D64484A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669-0F74-4B84-9654-F1BCE7FE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8EC-BC20-4B0E-890D-0493206D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85FB-9ADD-474D-A550-54D7D60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324E-6E4E-49BA-85A7-14C655AA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FA4-B5EB-470F-83F3-3E8EC9E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1AC-26AC-40EC-B33E-6DEC856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57A-64F6-4363-ACD3-8EE7A46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A79B-C332-4322-954F-8689B2A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D06-576F-483B-B8DB-8AD1F234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28DA-40B8-4CD1-8AC1-2994EA5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015-73C5-4621-979C-432A759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849-BA7B-471B-BC6E-90F0A182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F113-AC56-4118-B1A9-2C0AAE64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6B63-3DC5-495A-B43B-85515B39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C33-FA5E-4BC2-96AC-E0335BC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53D-8207-4852-848D-03CAEF6F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C2C-CD59-43DB-845E-F23EE04B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7E9-D878-4D5E-A0F3-91C79D5D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FEE-C3B3-4715-92CC-570A8E9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99A-C4C2-4F61-BCF5-9EB0E62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1FE-4164-4F5D-8350-5FC7376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539640"/>
              <a:ext cx="7391160" cy="257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942A-9B97-42D7-9DFB-D72F4D27B0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752480"/>
            <a:ext cx="9142560" cy="3114000"/>
            <a:chOff x="0" y="1752480"/>
            <a:chExt cx="9142560" cy="3114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292480"/>
              <a:ext cx="7391160" cy="25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4648-202F-4EEC-A5A2-6940490C3A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tracey.vause-earland@jefferson.edu" TargetMode="External"/><Relationship Id="rId2" Type="http://schemas.openxmlformats.org/officeDocument/2006/relationships/hyperlink" Target="mailto:adel.herge@jefferson.edu" TargetMode="External"/><Relationship Id="rId3" Type="http://schemas.openxmlformats.org/officeDocument/2006/relationships/hyperlink" Target="mailto:piersolc@philau.edu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Abadi MT Condensed Light"/>
              </a:rPr>
              <a:t>New Directions in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Abadi MT Condensed Light"/>
              </a:rPr>
              <a:t>Dementia Care at Hom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2640" y="220968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Tracey Vause-Earland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E. Adel Herge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Catherine Verrier Piersol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ntributing Authors: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aura N. Gitlin, Ph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Janice Burke, PhD, OTR/L, FAOT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omas Jefferson Univers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hiladelphia, P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unded by the National Institute of Mental Health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(Grant #R21 MH069425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L. Gitlin, Ph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rincipal Investiga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Significance of Approach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uropsychological 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ies unaware of what their family member with dementia CAN DO at h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unctional Consequences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of Neurological Chang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20040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scien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438280" y="3428640"/>
            <a:ext cx="99072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209680"/>
            <a:ext cx="2133720" cy="16765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logical &amp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psychologic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est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CAN NOT DO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886200"/>
            <a:ext cx="2209680" cy="106668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Daily Functio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657600"/>
            <a:ext cx="1067040" cy="1295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4952880"/>
            <a:ext cx="205740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ctivity Test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CAN DO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505320"/>
            <a:ext cx="83808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572000"/>
            <a:ext cx="9144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396252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Eligibility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Inclusion Criteri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&lt;24 or Physician’s diagno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le to feed sel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rs bored; sad or depressed; anxious or worried; agitated or restl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Inclusion Criteri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21 years or o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ves with care recip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s to live in area 8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s a teleph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cates a willingness to learn new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some level of assistance with at least one (1) ADL or three (3) IAD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905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981080"/>
            <a:ext cx="664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845280"/>
            <a:ext cx="7162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Study Desig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363040"/>
            <a:ext cx="160020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363040"/>
            <a:ext cx="160020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136600"/>
            <a:ext cx="1447920" cy="82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1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205000"/>
            <a:ext cx="1981440" cy="511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6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657600"/>
            <a:ext cx="0" cy="56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505320"/>
            <a:ext cx="1938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810320"/>
            <a:ext cx="18288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 Assess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572436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872240"/>
            <a:ext cx="2361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4 Month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Post Baseline (T2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2481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8 Months Post Baseline (T3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6477120"/>
            <a:ext cx="3276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286080"/>
            <a:ext cx="18288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328608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2666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666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633384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4038480"/>
            <a:ext cx="15238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3581280"/>
            <a:ext cx="0" cy="12193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4810320"/>
            <a:ext cx="167652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 Assess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Delivery Characteristic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ght contacts over 4-month peri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home visits (up to 1 ½ hour dur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-up telephone check-ins (20 minut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of different treatment modali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e play,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CG skills tra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activity-related devices/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tervention Desig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oduction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 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osu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egi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e Recip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 Strateg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plifying the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plifying the Enviro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ization to other activ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– Phase I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Assessment Proces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 Recip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and physical enviro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AP Clinical Interview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ablish rapport/obtain background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y daily routines, interests, and typical activities (past and presen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ences, care giv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roach to Activity Engag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leasant  Event Surv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quency, Enjoyability, Opportunity to do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leasant Event Surve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2133720"/>
          <a:ext cx="8686800" cy="3657600"/>
        </p:xfrm>
        <a:graphic>
          <a:graphicData uri="http://schemas.openxmlformats.org/drawingml/2006/table">
            <a:tbl>
              <a:tblPr/>
              <a:tblGrid>
                <a:gridCol w="1547640"/>
                <a:gridCol w="797040"/>
                <a:gridCol w="816120"/>
                <a:gridCol w="831600"/>
                <a:gridCol w="1143000"/>
                <a:gridCol w="1190880"/>
                <a:gridCol w="1495440"/>
                <a:gridCol w="865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past month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ABILIT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PPORTUNIT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past month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CTIVITI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e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m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fte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e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 th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s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eing outsid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tting outside, being in the country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0" y="51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0580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Adaptation of “The Pleasant Events Schedule – AD” Linda Teri, PhD and Rebecca Logsdon, PhD,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he Gerontologist, 31:1, 1991.</a:t>
            </a: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2280" y="8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13080" y="32590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rticipants will be able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grate recent evidence-based literature to identify specific strategies that facilitate activity engagement in persons with dement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dentify occupation-based strategies that help persons with dementia and their caregiver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gage in meaningful activities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nage troublesome behaviors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quality of life, an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mote participati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Allen’s Cognitive Levels to preserved capabilities and identify the approaches and cues needed to facilitate activity engagem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regiver Strategy Checklist: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d at session 1 and/or 2 &amp; final s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ample Strateg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ses short phrases when instructing the CR (2 or 3 wor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hows CR what to do by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ries to ignore CR’s mistak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ort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, Appearance, Communication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Compli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dapted from the Severe Cognitive Impairment Profile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Guerry M. Peavy, Ph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 2 (DRS-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5 subscales: Attention, Initiation/Perseveration,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ruction, Conceptualization, &amp;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attis, S., Jurica, P., Leitten, C. Dementia Rating Scale: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fessional Manual. Lutz, FL: Psychological Assessment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Assessments</a:t>
            </a: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ing the Care recipient’s capabiliti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Allen Batt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dentify a CR’s “Best Ability to Function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ze the cognitive &amp; motor requirements of activities CR wants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mmend meaningful activities that maintain CR abilities &amp; reduce CG burd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mmend environmental set up of activities to facilitate CR participation &amp; maintain safe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gnitive Disability Theo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ed by Claudia Allen, MA, OTR, FAO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 is “what people d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tal energy is  “what people pay attention 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capacity is “the ability to use mental energy to guide motor and speech performance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gnitive Disabil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 restriction in voluntary motor action originating in the physical or chemical structures of the brain and producing observable limitations in routine task behavior. (Allen, 1985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formation Processing Model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86000"/>
            <a:ext cx="2057400" cy="1600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240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35053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495680"/>
            <a:ext cx="25146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Processing spe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ndividual differences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952880" y="3504960"/>
            <a:ext cx="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666880"/>
            <a:ext cx="144792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Attention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124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2590920"/>
            <a:ext cx="312444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Observable Behavi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ctiv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Cognitive Level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One - Automatic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Two - Postural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Three - Manual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Four - Goal Directed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Five - Independent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Six - Planned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Cognitive Level - Mod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O - bits of information from previous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2 - distinctive characteristics of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me/place; easily overwhelm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4 - process all information of th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6 - orientation shifts up; information fr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8 - add information from next level; un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ntegrate all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2    Postural A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le to overcome effec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t, stand, move, walk or pu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M and mo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justs body to stabilize 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es pleasure/displeas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3  Manual A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handles objects, repetitive 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ye-hand coord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s concrete meaning of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etitive actions—may not notice effect of action o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ze, shape and col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quence of three 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ends to objects within 12-18” visual fie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roject TAP</a:t>
            </a:r>
            <a:br>
              <a:rPr sz="4400"/>
            </a:b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Tailored Activities Program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-based Occupational Therapy Intervention for persons with Dementia &amp; their Caregiv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 upon elements of Previous Dementia Caregiver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mentia Management Study (N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ject REACH (N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ject ACT (NIA, NIN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4  Goal Direct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e of objects in plain sight; 24” visual fie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gins to notice striking fe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ities are important to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gnizes errors, compliant with dir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s as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iar routines a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gnizes owner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s rules and no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Batte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Cognitive Level Screening T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tine Task Inven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Diagnostic Mo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ory Stimulation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Battery Tools in T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Allen Cognitive Level Scre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een to determine cognitiv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Diagnostic Module (Placema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volitional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l world context of an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gages client regardless of previous roles/education/exposure to crafts/personal prefer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0240" y="2400480"/>
            <a:ext cx="3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828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through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raft Analysi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3809880" cy="3268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6019920"/>
            <a:ext cx="18288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del placema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523880" y="4952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1981080"/>
            <a:ext cx="3962520" cy="19814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Qualitative Analysis of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iti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tt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Visual scan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oblem identification and self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rre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MSE = 2 ; DRS = &lt;1% in all are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8803"/>
          <a:stretch/>
        </p:blipFill>
        <p:spPr>
          <a:xfrm>
            <a:off x="3886200" y="2438280"/>
            <a:ext cx="4834080" cy="3306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MSE=13; DRS - Attention = &gt;82%; Construction= 41-59%; Initiation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Concept, Memory = &lt;1%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3200400" cy="2746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286000"/>
            <a:ext cx="2057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del place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9907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’s Cognitive Level 4.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0" y="1066680"/>
          <a:ext cx="9144000" cy="5790960"/>
        </p:xfrm>
        <a:graphic>
          <a:graphicData uri="http://schemas.openxmlformats.org/drawingml/2006/table">
            <a:tbl>
              <a:tblPr/>
              <a:tblGrid>
                <a:gridCol w="590400"/>
                <a:gridCol w="870120"/>
                <a:gridCol w="1353960"/>
                <a:gridCol w="1217880"/>
                <a:gridCol w="730080"/>
                <a:gridCol w="790560"/>
                <a:gridCol w="706680"/>
                <a:gridCol w="768240"/>
                <a:gridCol w="793800"/>
                <a:gridCol w="753840"/>
                <a:gridCol w="568440"/>
              </a:tblGrid>
              <a:tr h="56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s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G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rson with Dement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ds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M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ementia Rating Scal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ge adjusted scaled scores &amp; percentiles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ttent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t/P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st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cept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6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9 y spou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1 yr Caucasian male accountant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-18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7 yr AA, Hispanic female, &lt; hs educat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2-8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 y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pou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6 yr AA male,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llege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onepzi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mantin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7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7 yr Caucasian fema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emer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Zyprex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7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5 yr Caucasian male, &lt;hs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Trazadon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4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3 yr Caucasian male, &lt; hs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Zoloft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0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8 y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wif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1 yr AA ma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eroque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838080" y="457200"/>
            <a:ext cx="7467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SE EXAMPLES – NEUROPSYCHOLOGICAL TEST SC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How do these assessments inform/guide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ctivity engagement?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CR’s remaining 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appropriate and valued interventions based on cognitive ability &amp; inter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&amp; validates caregiver’s ideas and prior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the caregiver with information on what cues/strategies work best to facilitate eng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Developing a Collaborative Partnership:  Building Rapport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empathetic liste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caregiver’s goal for 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nd respect caregiver’s langu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down CG’s existing strategies to validate his/her expert knowle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ate Caregiver’s Active Problem-sol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Understanding the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Caregiver-Care Recipient Cultur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Keep these questions in mi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constitutes appropriate care to this CG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ir level of understanding of Dement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preferred approaches to coping/caring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meaning behind objects &amp; actions in their environm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hase II:  Introduction of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CR’s strengths and preserved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roduce 3 activity prescrip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le play, demonstrate, practice, reinforce prescribed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direct feedback; valid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-assess, problem-solve, with CG refine targeted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oject REACH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Environmental Skill-building Program (ESP)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tandardized occupational therapy service that empowers caregivers to identify and resolve dementia management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-Build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Strateg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se Example:  Ter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1 year old retired accounta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ther of 7 children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ried over 60 year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story of vascular dementia (multiple strok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s day center 2x/we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s to sing, play Bridge with family, great sense of humor (comedian, life of the par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Resul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 – 1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LS – 3.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 – 3.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en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itiation/Persevera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uction: 11-18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ptualiza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erry’s Abiliti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ood hand skills –able to grasp, release, and throw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llows simple 1 step directions with additional cueing (pointing and short verbal cues work be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ood attention and tolerance up to 30 minutes with activities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le to distinguish between size, shape, and feel of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le to place objects in “a row” and “into and out” of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stains repetitive actions; needs some asst. to progress to nex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Recommend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Sorting “EZ playing Cards”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or Viewing &amp; Discuss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Reminiscence Cards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Activity Goal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ry will sort and manipulate playing cards or look at the vintage photographs for 15 minu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implify the setting for the activ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clutter (remove items from work surface).  This will help your husband to focus on the task and eliminate confusion and distrac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ce cards directly in front of Terry, within 14-18” from ey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up a comfortable, supportive seat for Terry to s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auditory distractions (radio/TV)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up appropriate ligh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implify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 sufficient time for Terry to engage in card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ax standard of performance (there is no right or wrong w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may need to present 1 vintage photo at a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cart sorting simple. Say, “Place the Red cards in this pile &amp; black cards in this pile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Enhance Terry’s particip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n Terry’s long-term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card sorting, draw on Terry’s ability to perform repet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p into Terry’s interest in card play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lp Terry initiate and sequence – use a guiding touch and a simple comm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a time of day when he’s alert (after a na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Communicate Eff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encouragement-Praise Terry after completing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short comman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erry leaves the activity, use a calm voice and redirect him back, or wait 15 minutes and re-introduce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Stress Reduction Techniqu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trategies for Y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y to relax; take a few deep bre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member, there is no right or wrong way to do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el good about yourself – you are doing a great j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se Example: Anni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4 year old mother/grandmoth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ves with her daughter and son-in-la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ially attended Day cen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-stage dementia – difficulty eating, limited mobility, limited recogn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REACH Study (N= 255)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1600200"/>
          <a:ext cx="71625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16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Resul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 - 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LS – 3.2 (good day!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 – unable to 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’s Sensory Stimulation Kit – 3.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bserved at Day cen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 – unable to do/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nnie’s Abiliti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reach, grasp and release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s along with hand over hand as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eives pleasure and contentment from physical closeness (hugging, likes to hold your han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manipulate familiar objects-eating utensils and hairbru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le to see/identify primary colors and sha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Recommend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ctivity Pillow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nipulating/feeling various textures and fasten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ctivity Goal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nie will work with the activity pillow for 5 minutes (on and off- as she pleases) 2 times during the we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hase III:  Closure &amp; Generalization to new problem areas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/practice/validate 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ify strategies – problem solve with C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ize for future challenges- need to downgrade/simpl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ltering activities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s abilities change over tim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eep simplifying the activ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the number of materials us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the steps needed to complete an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ify instructions—use touch and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 passive activities (video, music, looking at photo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hange your expectations—Relax the rules—Focus on strength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26480" y="955080"/>
            <a:ext cx="7691040" cy="75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at do families need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ledge of the disease 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idation as a caregi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-specific understanding/knowledge of capabilities of person with dement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kills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lem-solv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sk and environmental simpl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lf-pro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ility to take care of self (preventive health, sleep, exerci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hat do persons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ith dementia need?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ization of behavioral disturban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ssurance, security and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agement in meaningful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portunities for social interaction and occup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ality of life throughout progression of th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Translational Research to Practic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-component in-home intervention design to prevent/reduce troublesome behavi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rehensive service approach combining most effective strategies from previous CG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ablishing an occupational therapy dementia serv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ining Institu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y Does Activity Work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level of energy expenditure has physiological benef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imizes boredom and/or inappropriate environmental stimuli which trigger agit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s into capacities, occupation, and productivity, is self-fulfilling and linked to preservation of self-id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8580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hank You!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Tracey Vause-Earland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tracey.vause-earland@jefferson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E. Adel Herge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2"/>
              </a:rPr>
              <a:t>adel.herge@jefferson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Catherine Verrier Piersol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3"/>
              </a:rPr>
              <a:t>piersolc@philau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ww.jefferson.edu/jchp/carah/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oject ACT</a:t>
            </a:r>
            <a:br>
              <a:rPr sz="4000"/>
            </a:br>
            <a:r>
              <a:rPr b="0" i="1" lang="en-US" sz="4000" spc="-1" strike="noStrike">
                <a:solidFill>
                  <a:srgbClr val="330099"/>
                </a:solidFill>
                <a:latin typeface="Times New Roman"/>
              </a:rPr>
              <a:t>Advancing Caregiving Technique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s caregiver upset with disruptive behavio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s the frequency of care recipient disruptive behavio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mple stress reduction techniqu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munication strategies (positive strategies, remove negative strategie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ask simplificatio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vironmental simplif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ctivity engag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Frameworks for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Understanding Behavior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-driven Behaviors (NDB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essively Lowered Stress Threshold (PL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tecedent-Behavior-Consequences (A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adic Model (person-environment-caregiver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Volicer and Hurley (2003).  </a:t>
            </a:r>
            <a:r>
              <a:rPr b="0" i="1" lang="en-US" sz="1600" spc="-1" strike="noStrike">
                <a:solidFill>
                  <a:srgbClr val="eaeaea"/>
                </a:solidFill>
                <a:latin typeface="Times New Roman"/>
              </a:rPr>
              <a:t>J. of Gerontology:  Medical Scien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ROJECT TAP Goals</a:t>
            </a:r>
            <a:br>
              <a:rPr sz="4400"/>
            </a:b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PI: Laura Gitlin, PhD  NIMH  MH069425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standard, portable assessment approach to identify &amp; match preserved capabilities with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idge neuropsychological testing with functional and activity analy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a portable, reproducible, targeted intervention designed to introduce meaningful activities to improve quality of life of persons with dementia, train caregiver (CG) in setting up activities and reduce CG burd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hy focus on activity engagement?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rved capabilities are an overlooked aspect of dement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s are in a unique position to assess capabilities of care-recipients and then design activity programs tailored to their capabilities, without relying on impaired areas of cogni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3:55:35Z</dcterms:created>
  <dc:creator>Owner</dc:creator>
  <dc:description/>
  <dc:language>en-US</dc:language>
  <cp:lastModifiedBy>bsb104</cp:lastModifiedBy>
  <dcterms:modified xsi:type="dcterms:W3CDTF">2007-05-03T17:16:50Z</dcterms:modified>
  <cp:revision>67</cp:revision>
  <dc:subject/>
  <dc:title>Tailoring Activities for Dementia Care in the Home Environment</dc:title>
</cp:coreProperties>
</file>